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452-670E-4B8B-9D62-36101AED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050-9D80-4DD4-B86E-8FA50518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878-F7B0-4C7A-8018-B6B4B5C3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8D1-9AFA-4268-85E5-F7618D58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EE1A-135E-4E25-8DB2-D99E1E58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9EBE-06A8-4DEB-A3F5-B86073CA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21BC-69D4-48C0-9842-657A004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0575-91EC-40C6-B225-FBC3D7FD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88F4-47A2-4E5B-AAB3-83D8572A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9520-2271-4350-BBE5-AFDEB058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0EAA-AE1B-45BC-B931-64F0E202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C8C-A912-48DA-93F8-1EE607FB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7FB4-7DEB-4680-B74C-EAEE993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7ACD-3721-4AA8-959A-03EFE7FC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03CD-1C20-4EDC-85E5-066CDFC9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A3A9-E6A8-484C-A72B-6CA2DB73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A738-A4A1-46F2-A000-11293BB5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518-9F7F-4D38-A165-51677D83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A9C-D76B-4EC4-A8EB-06C271AA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7C4-0205-408D-9D5B-909ABB5C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A54-60E5-419A-9DDA-5BDB9997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4AB-128E-4987-B8FC-DAF3730C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48D-C456-4571-9E9F-07224834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838-5D82-45F3-BB1F-14D110C0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4B65-2A13-49E6-846E-CA28C3C6F98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91DB-A43D-4EED-A4AE-E61839D4864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" Target="slide4.xm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0.xml"/><Relationship Id="rId4" Type="http://schemas.openxmlformats.org/officeDocument/2006/relationships/image" Target="../media/image15.wmf"/><Relationship Id="rId5" Type="http://schemas.openxmlformats.org/officeDocument/2006/relationships/slide" Target="slide22.xml"/><Relationship Id="rId6" Type="http://schemas.openxmlformats.org/officeDocument/2006/relationships/image" Target="../media/image16.wmf"/><Relationship Id="rId7" Type="http://schemas.openxmlformats.org/officeDocument/2006/relationships/slide" Target="slide26.xml"/><Relationship Id="rId8" Type="http://schemas.openxmlformats.org/officeDocument/2006/relationships/image" Target="../media/image17.wmf"/><Relationship Id="rId9" Type="http://schemas.openxmlformats.org/officeDocument/2006/relationships/oleObject" Target="../embeddings/oleObject1.bin"/><Relationship Id="rId10" Type="http://schemas.openxmlformats.org/officeDocument/2006/relationships/slide" Target="slide24.xml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" Target="slide19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400720" y="333360"/>
            <a:ext cx="3505320" cy="48974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358920" y="765000"/>
            <a:ext cx="8532720" cy="3779640"/>
            <a:chOff x="358920" y="765000"/>
            <a:chExt cx="8532720" cy="3779640"/>
          </a:xfrm>
        </p:grpSpPr>
        <p:sp>
          <p:nvSpPr>
            <p:cNvPr id="153" name=""/>
            <p:cNvSpPr/>
            <p:nvPr/>
          </p:nvSpPr>
          <p:spPr>
            <a:xfrm>
              <a:off x="5148360" y="3065400"/>
              <a:ext cx="3743280" cy="1188720"/>
            </a:xfrm>
            <a:prstGeom prst="rect">
              <a:avLst/>
            </a:prstGeom>
            <a:solidFill>
              <a:srgbClr val="8e2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358920" y="765000"/>
            <a:ext cx="4824360" cy="37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8920" y="765000"/>
                      <a:ext cx="4824360" cy="37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5183280" y="3025440"/>
              <a:ext cx="37083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222560" y="3025440"/>
              <a:ext cx="396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64360" y="4294440"/>
              <a:ext cx="35272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7640" y="4373640"/>
              <a:ext cx="30240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96360" y="4452120"/>
              <a:ext cx="21952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22560" y="2906640"/>
              <a:ext cx="3852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22560" y="2828160"/>
              <a:ext cx="3241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22560" y="2747520"/>
              <a:ext cx="270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997000"/>
            <a:ext cx="7483320" cy="1223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МОУ ГИ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НАЗИЯ </a:t>
            </a: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«ДМИ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ТРОВ»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47640" y="5768640"/>
            <a:ext cx="64008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00000"/>
                </a:solidFill>
                <a:latin typeface="Comic Sans MS"/>
              </a:rPr>
              <a:t>Московская область,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00000"/>
                </a:solidFill>
                <a:latin typeface="Comic Sans MS"/>
              </a:rPr>
              <a:t>г. Дмитров, ул. Инженерная д. 24-а</a:t>
            </a:r>
            <a:br>
              <a:rPr sz="900"/>
            </a:br>
            <a:r>
              <a:rPr b="0" lang="ru-RU" sz="900" spc="-1" strike="noStrike">
                <a:solidFill>
                  <a:srgbClr val="800000"/>
                </a:solidFill>
                <a:latin typeface="Comic Sans MS"/>
              </a:rPr>
              <a:t>тел. 993-92-50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00000"/>
                </a:solidFill>
                <a:latin typeface="Comic Sans MS"/>
              </a:rPr>
              <a:t>факс 8-096-3-54-17, 8-096-3-56-50; Е-</a:t>
            </a:r>
            <a:r>
              <a:rPr b="0" lang="en-US" sz="900" spc="-1" strike="noStrike">
                <a:solidFill>
                  <a:srgbClr val="800000"/>
                </a:solidFill>
                <a:latin typeface="Comic Sans MS"/>
              </a:rPr>
              <a:t>mail</a:t>
            </a:r>
            <a:r>
              <a:rPr b="0" lang="ru-RU" sz="900" spc="-1" strike="noStrike">
                <a:solidFill>
                  <a:srgbClr val="800000"/>
                </a:solidFill>
                <a:latin typeface="Comic Sans MS"/>
              </a:rPr>
              <a:t>: </a:t>
            </a:r>
            <a:r>
              <a:rPr b="0" lang="en-US" sz="900" spc="-1" strike="noStrike">
                <a:solidFill>
                  <a:srgbClr val="800000"/>
                </a:solidFill>
                <a:latin typeface="Comic Sans MS"/>
              </a:rPr>
              <a:t>gimdmitrov</a:t>
            </a:r>
            <a:r>
              <a:rPr b="0" lang="ru-RU" sz="900" spc="-1" strike="noStrike">
                <a:solidFill>
                  <a:srgbClr val="800000"/>
                </a:solidFill>
                <a:latin typeface="Comic Sans MS"/>
              </a:rPr>
              <a:t>@</a:t>
            </a:r>
            <a:r>
              <a:rPr b="0" lang="en-US" sz="900" spc="-1" strike="noStrike">
                <a:solidFill>
                  <a:srgbClr val="800000"/>
                </a:solidFill>
                <a:latin typeface="Comic Sans MS"/>
              </a:rPr>
              <a:t>rambler</a:t>
            </a:r>
            <a:r>
              <a:rPr b="0" lang="ru-RU" sz="900" spc="-1" strike="noStrike">
                <a:solidFill>
                  <a:srgbClr val="800000"/>
                </a:solidFill>
                <a:latin typeface="Comic Sans MS"/>
              </a:rPr>
              <a:t>.</a:t>
            </a:r>
            <a:r>
              <a:rPr b="0" lang="en-US" sz="900" spc="-1" strike="noStrike">
                <a:solidFill>
                  <a:srgbClr val="800000"/>
                </a:solidFill>
                <a:latin typeface="Comic Sans MS"/>
              </a:rPr>
              <a:t>ru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934920" y="4976640"/>
            <a:ext cx="7453440" cy="520560"/>
          </a:xfrm>
          <a:prstGeom prst="rect">
            <a:avLst/>
          </a:prstGeom>
          <a:solidFill>
            <a:srgbClr val="ffda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Учитель  химии Першина Ольга Геннад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3640" y="1828800"/>
            <a:ext cx="8057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Речь идет о кислороде – простом веществе – О</a:t>
            </a:r>
            <a:r>
              <a:rPr b="0" lang="ru-RU" sz="3600" spc="-1" strike="noStrike" baseline="-25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7667640" y="5950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3512" y="3837"/>
                </a:moveTo>
                <a:lnTo>
                  <a:pt x="16088" y="6448"/>
                </a:ln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lnTo>
                  <a:pt x="20475" y="10800"/>
                </a:lnTo>
                <a:lnTo>
                  <a:pt x="18821" y="10800"/>
                </a:lnTo>
                <a:lnTo>
                  <a:pt x="18821" y="17989"/>
                </a:lnTo>
                <a:lnTo>
                  <a:pt x="8203" y="17989"/>
                </a:lnTo>
                <a:lnTo>
                  <a:pt x="8203" y="10800"/>
                </a:lnTo>
                <a:lnTo>
                  <a:pt x="6549" y="10800"/>
                </a:lnTo>
                <a:close/>
              </a:path>
              <a:path fill="darkenLess" w="27024" h="21600">
                <a:moveTo>
                  <a:pt x="16088" y="6448"/>
                </a:move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close/>
              </a:path>
              <a:path fill="darkenLess" w="27024" h="21600">
                <a:moveTo>
                  <a:pt x="12589" y="14299"/>
                </a:moveTo>
                <a:lnTo>
                  <a:pt x="14434" y="14299"/>
                </a:lnTo>
                <a:lnTo>
                  <a:pt x="14434" y="17989"/>
                </a:lnTo>
                <a:lnTo>
                  <a:pt x="18821" y="17989"/>
                </a:lnTo>
                <a:lnTo>
                  <a:pt x="18821" y="10800"/>
                </a:lnTo>
                <a:lnTo>
                  <a:pt x="8203" y="10800"/>
                </a:lnTo>
                <a:lnTo>
                  <a:pt x="8203" y="17989"/>
                </a:lnTo>
                <a:lnTo>
                  <a:pt x="12589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851280" y="4365720"/>
          <a:ext cx="9921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4365720"/>
                    <a:ext cx="9921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4000" y="549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вет на вопрос № 3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3108240"/>
            <a:ext cx="8064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Уравнение горения  парафи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mic Sans MS"/>
              </a:rPr>
              <a:t>15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mic Sans MS"/>
              </a:rPr>
              <a:t>32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23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15 C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+  16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6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769608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В трех одинаковых банках, закрытых пробками содержатся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ислород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углекислый газ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воздух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. Как опытным путем определить, в какой банке какой газ находитс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7596360" y="5805360"/>
            <a:ext cx="793440" cy="648000"/>
          </a:xfrm>
          <a:custGeom>
            <a:avLst/>
            <a:gdLst>
              <a:gd name="textAreaLeft" fmla="*/ 41760 w 793440"/>
              <a:gd name="textAreaRight" fmla="*/ 751680 w 7934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445" h="21600">
                <a:moveTo>
                  <a:pt x="0" y="0"/>
                </a:moveTo>
                <a:lnTo>
                  <a:pt x="26445" y="0"/>
                </a:lnTo>
                <a:lnTo>
                  <a:pt x="26445" y="21600"/>
                </a:lnTo>
                <a:lnTo>
                  <a:pt x="0" y="21600"/>
                </a:lnTo>
                <a:close/>
              </a:path>
              <a:path fill="lightenLess" w="26445" h="21600">
                <a:moveTo>
                  <a:pt x="0" y="0"/>
                </a:moveTo>
                <a:lnTo>
                  <a:pt x="26445" y="0"/>
                </a:lnTo>
                <a:lnTo>
                  <a:pt x="25045" y="1400"/>
                </a:lnTo>
                <a:lnTo>
                  <a:pt x="1400" y="1400"/>
                </a:lnTo>
                <a:close/>
              </a:path>
              <a:path fill="darken" w="26445" h="21600">
                <a:moveTo>
                  <a:pt x="26445" y="0"/>
                </a:moveTo>
                <a:lnTo>
                  <a:pt x="26445" y="21600"/>
                </a:lnTo>
                <a:lnTo>
                  <a:pt x="25045" y="20200"/>
                </a:lnTo>
                <a:lnTo>
                  <a:pt x="25045" y="1400"/>
                </a:lnTo>
                <a:close/>
              </a:path>
              <a:path fill="darkenLess" w="26445" h="21600">
                <a:moveTo>
                  <a:pt x="26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45" y="20200"/>
                </a:lnTo>
                <a:close/>
              </a:path>
              <a:path fill="lighten" w="26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45" h="21600">
                <a:moveTo>
                  <a:pt x="1322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45" h="21600">
                <a:moveTo>
                  <a:pt x="1322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45" h="21600">
                <a:moveTo>
                  <a:pt x="10646" y="8224"/>
                </a:moveTo>
                <a:lnTo>
                  <a:pt x="14511" y="8224"/>
                </a:lnTo>
                <a:lnTo>
                  <a:pt x="14511" y="15221"/>
                </a:lnTo>
                <a:lnTo>
                  <a:pt x="15799" y="15221"/>
                </a:lnTo>
                <a:lnTo>
                  <a:pt x="15799" y="16144"/>
                </a:lnTo>
                <a:lnTo>
                  <a:pt x="10646" y="16144"/>
                </a:lnTo>
                <a:lnTo>
                  <a:pt x="10646" y="15221"/>
                </a:lnTo>
                <a:lnTo>
                  <a:pt x="11935" y="15221"/>
                </a:lnTo>
                <a:lnTo>
                  <a:pt x="11935" y="9129"/>
                </a:lnTo>
                <a:lnTo>
                  <a:pt x="10646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908000" y="4437000"/>
            <a:ext cx="1549440" cy="2097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3851280" y="4437000"/>
            <a:ext cx="1549440" cy="2097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651640" y="4437000"/>
            <a:ext cx="1549440" cy="2097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прос №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пособ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Опустить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горящую лучинку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 в каждую из банок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если потухнет – углекислый газ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если загорится ярче – кислород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если не изменится пламя – возду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Способ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Взвесить банки: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самая тяжелая с углекислым газом, так как его молярная масса 44 г/моль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средняя по весу – кислород – 32 г/моль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самая легкая – воздух – средняя  молярная масса – 29 г/мол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>
            <a:hlinkClick r:id="rId8" action="ppaction://hlinksldjump"/>
          </p:cNvPr>
          <p:cNvSpPr/>
          <p:nvPr/>
        </p:nvSpPr>
        <p:spPr>
          <a:xfrm>
            <a:off x="7596360" y="5950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3512" y="3837"/>
                </a:moveTo>
                <a:lnTo>
                  <a:pt x="16088" y="6448"/>
                </a:ln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lnTo>
                  <a:pt x="20475" y="10800"/>
                </a:lnTo>
                <a:lnTo>
                  <a:pt x="18821" y="10800"/>
                </a:lnTo>
                <a:lnTo>
                  <a:pt x="18821" y="17989"/>
                </a:lnTo>
                <a:lnTo>
                  <a:pt x="8203" y="17989"/>
                </a:lnTo>
                <a:lnTo>
                  <a:pt x="8203" y="10800"/>
                </a:lnTo>
                <a:lnTo>
                  <a:pt x="6549" y="10800"/>
                </a:lnTo>
                <a:close/>
              </a:path>
              <a:path fill="darkenLess" w="27024" h="21600">
                <a:moveTo>
                  <a:pt x="16088" y="6448"/>
                </a:move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close/>
              </a:path>
              <a:path fill="darkenLess" w="27024" h="21600">
                <a:moveTo>
                  <a:pt x="12589" y="14299"/>
                </a:moveTo>
                <a:lnTo>
                  <a:pt x="14434" y="14299"/>
                </a:lnTo>
                <a:lnTo>
                  <a:pt x="14434" y="17989"/>
                </a:lnTo>
                <a:lnTo>
                  <a:pt x="18821" y="17989"/>
                </a:lnTo>
                <a:lnTo>
                  <a:pt x="18821" y="10800"/>
                </a:lnTo>
                <a:lnTo>
                  <a:pt x="8203" y="10800"/>
                </a:lnTo>
                <a:lnTo>
                  <a:pt x="8203" y="17989"/>
                </a:lnTo>
                <a:lnTo>
                  <a:pt x="12589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вет на вопрос № 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Как называются вещества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i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, Na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, 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В каком из предложенных  веществ 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массовая доля кислород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наибольшая </a:t>
            </a: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596360" y="5805360"/>
            <a:ext cx="793440" cy="648000"/>
          </a:xfrm>
          <a:custGeom>
            <a:avLst/>
            <a:gdLst>
              <a:gd name="textAreaLeft" fmla="*/ 41760 w 793440"/>
              <a:gd name="textAreaRight" fmla="*/ 751680 w 7934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445" h="21600">
                <a:moveTo>
                  <a:pt x="0" y="0"/>
                </a:moveTo>
                <a:lnTo>
                  <a:pt x="26445" y="0"/>
                </a:lnTo>
                <a:lnTo>
                  <a:pt x="26445" y="21600"/>
                </a:lnTo>
                <a:lnTo>
                  <a:pt x="0" y="21600"/>
                </a:lnTo>
                <a:close/>
              </a:path>
              <a:path fill="lightenLess" w="26445" h="21600">
                <a:moveTo>
                  <a:pt x="0" y="0"/>
                </a:moveTo>
                <a:lnTo>
                  <a:pt x="26445" y="0"/>
                </a:lnTo>
                <a:lnTo>
                  <a:pt x="25045" y="1400"/>
                </a:lnTo>
                <a:lnTo>
                  <a:pt x="1400" y="1400"/>
                </a:lnTo>
                <a:close/>
              </a:path>
              <a:path fill="darken" w="26445" h="21600">
                <a:moveTo>
                  <a:pt x="26445" y="0"/>
                </a:moveTo>
                <a:lnTo>
                  <a:pt x="26445" y="21600"/>
                </a:lnTo>
                <a:lnTo>
                  <a:pt x="25045" y="20200"/>
                </a:lnTo>
                <a:lnTo>
                  <a:pt x="25045" y="1400"/>
                </a:lnTo>
                <a:close/>
              </a:path>
              <a:path fill="darkenLess" w="26445" h="21600">
                <a:moveTo>
                  <a:pt x="26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45" y="20200"/>
                </a:lnTo>
                <a:close/>
              </a:path>
              <a:path fill="lighten" w="26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45" h="21600">
                <a:moveTo>
                  <a:pt x="1322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45" h="21600">
                <a:moveTo>
                  <a:pt x="1322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45" h="21600">
                <a:moveTo>
                  <a:pt x="10646" y="8224"/>
                </a:moveTo>
                <a:lnTo>
                  <a:pt x="14511" y="8224"/>
                </a:lnTo>
                <a:lnTo>
                  <a:pt x="14511" y="15221"/>
                </a:lnTo>
                <a:lnTo>
                  <a:pt x="15799" y="15221"/>
                </a:lnTo>
                <a:lnTo>
                  <a:pt x="15799" y="16144"/>
                </a:lnTo>
                <a:lnTo>
                  <a:pt x="10646" y="16144"/>
                </a:lnTo>
                <a:lnTo>
                  <a:pt x="10646" y="15221"/>
                </a:lnTo>
                <a:lnTo>
                  <a:pt x="11935" y="15221"/>
                </a:lnTo>
                <a:lnTo>
                  <a:pt x="11935" y="9129"/>
                </a:lnTo>
                <a:lnTo>
                  <a:pt x="10646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10920" y="549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прос №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– оксид лит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– оксид  натр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-  оксид ка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ибольшая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ссовая доля кислород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в оксиде лития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, так как формулы веществ одинаковы, а молярные массы металлов от лития к калию увеличиваю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ожно было и просто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ассчитать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7596360" y="5877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3503" y="3837"/>
                </a:moveTo>
                <a:lnTo>
                  <a:pt x="16080" y="6448"/>
                </a:lnTo>
                <a:lnTo>
                  <a:pt x="16080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3" y="10800"/>
                </a:lnTo>
                <a:lnTo>
                  <a:pt x="18813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7" h="21600">
                <a:moveTo>
                  <a:pt x="16080" y="6448"/>
                </a:moveTo>
                <a:lnTo>
                  <a:pt x="16080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7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3" y="17989"/>
                </a:lnTo>
                <a:lnTo>
                  <a:pt x="18813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627280" y="5445000"/>
            <a:ext cx="876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3 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96000" y="5877000"/>
            <a:ext cx="876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7 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284720" y="5661000"/>
            <a:ext cx="876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 %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39640" y="40464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вет на вопрос №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4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2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92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5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7596360" y="5805360"/>
            <a:ext cx="793440" cy="648000"/>
          </a:xfrm>
          <a:custGeom>
            <a:avLst/>
            <a:gdLst>
              <a:gd name="textAreaLeft" fmla="*/ 41760 w 793440"/>
              <a:gd name="textAreaRight" fmla="*/ 751680 w 7934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445" h="21600">
                <a:moveTo>
                  <a:pt x="0" y="0"/>
                </a:moveTo>
                <a:lnTo>
                  <a:pt x="26445" y="0"/>
                </a:lnTo>
                <a:lnTo>
                  <a:pt x="26445" y="21600"/>
                </a:lnTo>
                <a:lnTo>
                  <a:pt x="0" y="21600"/>
                </a:lnTo>
                <a:close/>
              </a:path>
              <a:path fill="lightenLess" w="26445" h="21600">
                <a:moveTo>
                  <a:pt x="0" y="0"/>
                </a:moveTo>
                <a:lnTo>
                  <a:pt x="26445" y="0"/>
                </a:lnTo>
                <a:lnTo>
                  <a:pt x="25045" y="1400"/>
                </a:lnTo>
                <a:lnTo>
                  <a:pt x="1400" y="1400"/>
                </a:lnTo>
                <a:close/>
              </a:path>
              <a:path fill="darken" w="26445" h="21600">
                <a:moveTo>
                  <a:pt x="26445" y="0"/>
                </a:moveTo>
                <a:lnTo>
                  <a:pt x="26445" y="21600"/>
                </a:lnTo>
                <a:lnTo>
                  <a:pt x="25045" y="20200"/>
                </a:lnTo>
                <a:lnTo>
                  <a:pt x="25045" y="1400"/>
                </a:lnTo>
                <a:close/>
              </a:path>
              <a:path fill="darkenLess" w="26445" h="21600">
                <a:moveTo>
                  <a:pt x="26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45" y="20200"/>
                </a:lnTo>
                <a:close/>
              </a:path>
              <a:path fill="lighten" w="26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45" h="21600">
                <a:moveTo>
                  <a:pt x="1322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45" h="21600">
                <a:moveTo>
                  <a:pt x="1322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45" h="21600">
                <a:moveTo>
                  <a:pt x="10646" y="8224"/>
                </a:moveTo>
                <a:lnTo>
                  <a:pt x="14511" y="8224"/>
                </a:lnTo>
                <a:lnTo>
                  <a:pt x="14511" y="15221"/>
                </a:lnTo>
                <a:lnTo>
                  <a:pt x="15799" y="15221"/>
                </a:lnTo>
                <a:lnTo>
                  <a:pt x="15799" y="16144"/>
                </a:lnTo>
                <a:lnTo>
                  <a:pt x="10646" y="16144"/>
                </a:lnTo>
                <a:lnTo>
                  <a:pt x="10646" y="15221"/>
                </a:lnTo>
                <a:lnTo>
                  <a:pt x="11935" y="15221"/>
                </a:lnTo>
                <a:lnTo>
                  <a:pt x="11935" y="9129"/>
                </a:lnTo>
                <a:lnTo>
                  <a:pt x="10646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374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Какие соединения образуются при взаимодействии данных простых веществ с кислородом? Составьте уравнения реакц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761280" y="720720"/>
            <a:ext cx="5057640" cy="4799160"/>
            <a:chOff x="3761280" y="720720"/>
            <a:chExt cx="5057640" cy="4799160"/>
          </a:xfrm>
        </p:grpSpPr>
        <p:grpSp>
          <p:nvGrpSpPr>
            <p:cNvPr id="284" name=""/>
            <p:cNvGrpSpPr/>
            <p:nvPr/>
          </p:nvGrpSpPr>
          <p:grpSpPr>
            <a:xfrm>
              <a:off x="3761280" y="720720"/>
              <a:ext cx="5057640" cy="4799160"/>
              <a:chOff x="3761280" y="720720"/>
              <a:chExt cx="5057640" cy="4799160"/>
            </a:xfrm>
          </p:grpSpPr>
          <p:sp>
            <p:nvSpPr>
              <p:cNvPr id="285" name=""/>
              <p:cNvSpPr/>
              <p:nvPr/>
            </p:nvSpPr>
            <p:spPr>
              <a:xfrm rot="1344000">
                <a:off x="5699160" y="2678400"/>
                <a:ext cx="1178280" cy="1159920"/>
              </a:xfrm>
              <a:prstGeom prst="ellipse">
                <a:avLst/>
              </a:prstGeom>
              <a:solidFill>
                <a:srgbClr val="fffb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344000">
                <a:off x="5403240" y="995040"/>
                <a:ext cx="1768320" cy="165708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344000">
                <a:off x="4010040" y="1944360"/>
                <a:ext cx="1768680" cy="16567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344000">
                <a:off x="6248880" y="3584520"/>
                <a:ext cx="1768680" cy="16567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344000">
                <a:off x="6801120" y="2019960"/>
                <a:ext cx="1768680" cy="165708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344000">
                <a:off x="4517280" y="3588120"/>
                <a:ext cx="1768680" cy="165708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 txBox="1"/>
            <p:nvPr/>
          </p:nvSpPr>
          <p:spPr>
            <a:xfrm>
              <a:off x="4429080" y="2347920"/>
              <a:ext cx="720720" cy="93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b2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P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4932360" y="4076640"/>
              <a:ext cx="906480" cy="93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b2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6805800" y="4076640"/>
              <a:ext cx="906480" cy="93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a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7524720" y="2419200"/>
              <a:ext cx="763560" cy="93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b2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B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5869080" y="1268280"/>
              <a:ext cx="906480" cy="93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l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6013440" y="2852640"/>
              <a:ext cx="576360" cy="78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33cc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O</a:t>
              </a:r>
              <a:endParaRPr b="0" lang="en-US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411280" y="537372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 означает цвет символа элемен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755280" y="333360"/>
            <a:ext cx="5040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прос №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0920" y="4005000"/>
            <a:ext cx="8164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Цвет символа означает наличие металлических или неметаллических свойств у элемента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, B,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–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неметал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метал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>
            <a:hlinkClick r:id="rId2" action="ppaction://hlinksldjump"/>
          </p:cNvPr>
          <p:cNvSpPr/>
          <p:nvPr/>
        </p:nvSpPr>
        <p:spPr>
          <a:xfrm>
            <a:off x="7667640" y="5950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3512" y="3837"/>
                </a:moveTo>
                <a:lnTo>
                  <a:pt x="16088" y="6448"/>
                </a:ln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lnTo>
                  <a:pt x="20475" y="10800"/>
                </a:lnTo>
                <a:lnTo>
                  <a:pt x="18821" y="10800"/>
                </a:lnTo>
                <a:lnTo>
                  <a:pt x="18821" y="17989"/>
                </a:lnTo>
                <a:lnTo>
                  <a:pt x="8203" y="17989"/>
                </a:lnTo>
                <a:lnTo>
                  <a:pt x="8203" y="10800"/>
                </a:lnTo>
                <a:lnTo>
                  <a:pt x="6549" y="10800"/>
                </a:lnTo>
                <a:close/>
              </a:path>
              <a:path fill="darkenLess" w="27024" h="21600">
                <a:moveTo>
                  <a:pt x="16088" y="6448"/>
                </a:move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close/>
              </a:path>
              <a:path fill="darkenLess" w="27024" h="21600">
                <a:moveTo>
                  <a:pt x="12589" y="14299"/>
                </a:moveTo>
                <a:lnTo>
                  <a:pt x="14434" y="14299"/>
                </a:lnTo>
                <a:lnTo>
                  <a:pt x="14434" y="17989"/>
                </a:lnTo>
                <a:lnTo>
                  <a:pt x="18821" y="17989"/>
                </a:lnTo>
                <a:lnTo>
                  <a:pt x="18821" y="10800"/>
                </a:lnTo>
                <a:lnTo>
                  <a:pt x="8203" y="10800"/>
                </a:lnTo>
                <a:lnTo>
                  <a:pt x="8203" y="17989"/>
                </a:lnTo>
                <a:lnTo>
                  <a:pt x="12589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1341360"/>
            <a:ext cx="770400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b2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–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оксид фосфора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en-US" sz="2800" spc="-1" strike="noStrike" baseline="-25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b2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–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оксид б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O</a:t>
            </a:r>
            <a:r>
              <a:rPr b="0" lang="en-US" sz="2800" spc="-1" strike="noStrike" baseline="-25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–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оксид серы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a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оксид каль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 оксид алюм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7164360" y="1268280"/>
          <a:ext cx="152100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268280"/>
                    <a:ext cx="15210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0" y="5481720"/>
          <a:ext cx="2340000" cy="13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481720"/>
                    <a:ext cx="23400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10920" y="475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вет на вопрос №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48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48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16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d00e8"/>
                </a:solidFill>
                <a:latin typeface="Comic Sans MS"/>
              </a:rPr>
              <a:t>На листочек с уравнением реакции попала «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лякса</a:t>
            </a:r>
            <a:r>
              <a:rPr b="0" lang="ru-RU" sz="3200" spc="-1" strike="noStrike">
                <a:solidFill>
                  <a:srgbClr val="3d00e8"/>
                </a:solidFill>
                <a:latin typeface="Comic Sans MS"/>
              </a:rPr>
              <a:t>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00e8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3d00e8"/>
                </a:solidFill>
                <a:latin typeface="Comic Sans MS"/>
              </a:rPr>
              <a:t>Определите формулу вещества, «исчезнувшего» под кляксой, и назовите ег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n + 4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(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нц.)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Sn(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+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        + 4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7596360" y="5805360"/>
            <a:ext cx="793440" cy="648000"/>
          </a:xfrm>
          <a:custGeom>
            <a:avLst/>
            <a:gdLst>
              <a:gd name="textAreaLeft" fmla="*/ 41760 w 793440"/>
              <a:gd name="textAreaRight" fmla="*/ 751680 w 7934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445" h="21600">
                <a:moveTo>
                  <a:pt x="0" y="0"/>
                </a:moveTo>
                <a:lnTo>
                  <a:pt x="26445" y="0"/>
                </a:lnTo>
                <a:lnTo>
                  <a:pt x="26445" y="21600"/>
                </a:lnTo>
                <a:lnTo>
                  <a:pt x="0" y="21600"/>
                </a:lnTo>
                <a:close/>
              </a:path>
              <a:path fill="lightenLess" w="26445" h="21600">
                <a:moveTo>
                  <a:pt x="0" y="0"/>
                </a:moveTo>
                <a:lnTo>
                  <a:pt x="26445" y="0"/>
                </a:lnTo>
                <a:lnTo>
                  <a:pt x="25045" y="1400"/>
                </a:lnTo>
                <a:lnTo>
                  <a:pt x="1400" y="1400"/>
                </a:lnTo>
                <a:close/>
              </a:path>
              <a:path fill="darken" w="26445" h="21600">
                <a:moveTo>
                  <a:pt x="26445" y="0"/>
                </a:moveTo>
                <a:lnTo>
                  <a:pt x="26445" y="21600"/>
                </a:lnTo>
                <a:lnTo>
                  <a:pt x="25045" y="20200"/>
                </a:lnTo>
                <a:lnTo>
                  <a:pt x="25045" y="1400"/>
                </a:lnTo>
                <a:close/>
              </a:path>
              <a:path fill="darkenLess" w="26445" h="21600">
                <a:moveTo>
                  <a:pt x="26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45" y="20200"/>
                </a:lnTo>
                <a:close/>
              </a:path>
              <a:path fill="lighten" w="26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45" h="21600">
                <a:moveTo>
                  <a:pt x="1322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45" h="21600">
                <a:moveTo>
                  <a:pt x="1322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45" h="21600">
                <a:moveTo>
                  <a:pt x="10646" y="8224"/>
                </a:moveTo>
                <a:lnTo>
                  <a:pt x="14511" y="8224"/>
                </a:lnTo>
                <a:lnTo>
                  <a:pt x="14511" y="15221"/>
                </a:lnTo>
                <a:lnTo>
                  <a:pt x="15799" y="15221"/>
                </a:lnTo>
                <a:lnTo>
                  <a:pt x="15799" y="16144"/>
                </a:lnTo>
                <a:lnTo>
                  <a:pt x="10646" y="16144"/>
                </a:lnTo>
                <a:lnTo>
                  <a:pt x="10646" y="15221"/>
                </a:lnTo>
                <a:lnTo>
                  <a:pt x="11935" y="15221"/>
                </a:lnTo>
                <a:lnTo>
                  <a:pt x="11935" y="9129"/>
                </a:lnTo>
                <a:lnTo>
                  <a:pt x="10646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0063200">
            <a:off x="7450920" y="3860280"/>
            <a:ext cx="1420920" cy="1579680"/>
          </a:xfrm>
          <a:custGeom>
            <a:avLst/>
            <a:gdLst/>
            <a:ahLst/>
            <a:rect l="l" t="t" r="r" b="b"/>
            <a:pathLst>
              <a:path w="725" h="995">
                <a:moveTo>
                  <a:pt x="201" y="183"/>
                </a:moveTo>
                <a:cubicBezTo>
                  <a:pt x="188" y="143"/>
                  <a:pt x="183" y="58"/>
                  <a:pt x="215" y="26"/>
                </a:cubicBezTo>
                <a:cubicBezTo>
                  <a:pt x="221" y="20"/>
                  <a:pt x="306" y="0"/>
                  <a:pt x="306" y="0"/>
                </a:cubicBezTo>
                <a:cubicBezTo>
                  <a:pt x="315" y="13"/>
                  <a:pt x="326" y="25"/>
                  <a:pt x="332" y="39"/>
                </a:cubicBezTo>
                <a:cubicBezTo>
                  <a:pt x="339" y="56"/>
                  <a:pt x="334" y="78"/>
                  <a:pt x="345" y="92"/>
                </a:cubicBezTo>
                <a:cubicBezTo>
                  <a:pt x="354" y="103"/>
                  <a:pt x="372" y="101"/>
                  <a:pt x="385" y="105"/>
                </a:cubicBezTo>
                <a:cubicBezTo>
                  <a:pt x="444" y="95"/>
                  <a:pt x="487" y="74"/>
                  <a:pt x="542" y="92"/>
                </a:cubicBezTo>
                <a:cubicBezTo>
                  <a:pt x="533" y="118"/>
                  <a:pt x="525" y="144"/>
                  <a:pt x="516" y="170"/>
                </a:cubicBezTo>
                <a:cubicBezTo>
                  <a:pt x="512" y="183"/>
                  <a:pt x="523" y="197"/>
                  <a:pt x="529" y="210"/>
                </a:cubicBezTo>
                <a:cubicBezTo>
                  <a:pt x="559" y="271"/>
                  <a:pt x="627" y="268"/>
                  <a:pt x="686" y="288"/>
                </a:cubicBezTo>
                <a:cubicBezTo>
                  <a:pt x="695" y="314"/>
                  <a:pt x="703" y="341"/>
                  <a:pt x="712" y="367"/>
                </a:cubicBezTo>
                <a:cubicBezTo>
                  <a:pt x="721" y="393"/>
                  <a:pt x="691" y="418"/>
                  <a:pt x="686" y="445"/>
                </a:cubicBezTo>
                <a:cubicBezTo>
                  <a:pt x="672" y="517"/>
                  <a:pt x="655" y="526"/>
                  <a:pt x="633" y="589"/>
                </a:cubicBezTo>
                <a:cubicBezTo>
                  <a:pt x="701" y="657"/>
                  <a:pt x="671" y="622"/>
                  <a:pt x="725" y="694"/>
                </a:cubicBezTo>
                <a:cubicBezTo>
                  <a:pt x="721" y="720"/>
                  <a:pt x="720" y="748"/>
                  <a:pt x="712" y="773"/>
                </a:cubicBezTo>
                <a:cubicBezTo>
                  <a:pt x="698" y="815"/>
                  <a:pt x="678" y="813"/>
                  <a:pt x="647" y="838"/>
                </a:cubicBezTo>
                <a:cubicBezTo>
                  <a:pt x="617" y="862"/>
                  <a:pt x="587" y="897"/>
                  <a:pt x="555" y="917"/>
                </a:cubicBezTo>
                <a:cubicBezTo>
                  <a:pt x="527" y="934"/>
                  <a:pt x="438" y="941"/>
                  <a:pt x="424" y="943"/>
                </a:cubicBezTo>
                <a:cubicBezTo>
                  <a:pt x="355" y="932"/>
                  <a:pt x="313" y="917"/>
                  <a:pt x="241" y="943"/>
                </a:cubicBezTo>
                <a:cubicBezTo>
                  <a:pt x="223" y="949"/>
                  <a:pt x="217" y="972"/>
                  <a:pt x="201" y="982"/>
                </a:cubicBezTo>
                <a:cubicBezTo>
                  <a:pt x="190" y="990"/>
                  <a:pt x="175" y="991"/>
                  <a:pt x="162" y="995"/>
                </a:cubicBezTo>
                <a:cubicBezTo>
                  <a:pt x="149" y="986"/>
                  <a:pt x="133" y="981"/>
                  <a:pt x="123" y="969"/>
                </a:cubicBezTo>
                <a:cubicBezTo>
                  <a:pt x="95" y="934"/>
                  <a:pt x="106" y="882"/>
                  <a:pt x="97" y="838"/>
                </a:cubicBezTo>
                <a:cubicBezTo>
                  <a:pt x="89" y="799"/>
                  <a:pt x="79" y="792"/>
                  <a:pt x="57" y="759"/>
                </a:cubicBezTo>
                <a:cubicBezTo>
                  <a:pt x="39" y="704"/>
                  <a:pt x="0" y="607"/>
                  <a:pt x="71" y="563"/>
                </a:cubicBezTo>
                <a:cubicBezTo>
                  <a:pt x="94" y="549"/>
                  <a:pt x="123" y="546"/>
                  <a:pt x="149" y="537"/>
                </a:cubicBezTo>
                <a:cubicBezTo>
                  <a:pt x="162" y="533"/>
                  <a:pt x="188" y="524"/>
                  <a:pt x="188" y="524"/>
                </a:cubicBezTo>
                <a:cubicBezTo>
                  <a:pt x="211" y="490"/>
                  <a:pt x="259" y="423"/>
                  <a:pt x="215" y="380"/>
                </a:cubicBezTo>
                <a:cubicBezTo>
                  <a:pt x="195" y="361"/>
                  <a:pt x="136" y="354"/>
                  <a:pt x="136" y="354"/>
                </a:cubicBezTo>
                <a:cubicBezTo>
                  <a:pt x="128" y="345"/>
                  <a:pt x="81" y="301"/>
                  <a:pt x="84" y="288"/>
                </a:cubicBezTo>
                <a:cubicBezTo>
                  <a:pt x="87" y="273"/>
                  <a:pt x="110" y="271"/>
                  <a:pt x="123" y="262"/>
                </a:cubicBezTo>
                <a:cubicBezTo>
                  <a:pt x="145" y="266"/>
                  <a:pt x="167" y="270"/>
                  <a:pt x="188" y="275"/>
                </a:cubicBezTo>
                <a:cubicBezTo>
                  <a:pt x="202" y="278"/>
                  <a:pt x="215" y="294"/>
                  <a:pt x="228" y="288"/>
                </a:cubicBezTo>
                <a:cubicBezTo>
                  <a:pt x="240" y="282"/>
                  <a:pt x="237" y="262"/>
                  <a:pt x="241" y="249"/>
                </a:cubicBezTo>
                <a:cubicBezTo>
                  <a:pt x="226" y="174"/>
                  <a:pt x="250" y="183"/>
                  <a:pt x="201" y="183"/>
                </a:cubicBez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640" y="33336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23640" y="1828440"/>
            <a:ext cx="835164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На основании закона сохранения масс веществ сумма атомов в левой и правой части уравнения должны быть равн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n + 4 H</a:t>
            </a:r>
            <a:r>
              <a:rPr b="0" lang="en-US" sz="3200" spc="-1" strike="noStrike" baseline="-25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b2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(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конц.)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2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Sn(SO</a:t>
            </a:r>
            <a:r>
              <a:rPr b="0" lang="en-US" sz="3200" spc="-1" strike="noStrike" baseline="-25000">
                <a:solidFill>
                  <a:srgbClr val="00b2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)</a:t>
            </a:r>
            <a:r>
              <a:rPr b="0" lang="en-US" sz="3200" spc="-1" strike="noStrike" baseline="-25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+ 4 H</a:t>
            </a:r>
            <a:r>
              <a:rPr b="0" lang="en-US" sz="3200" spc="-1" strike="noStrike" baseline="-25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O </a:t>
            </a:r>
            <a:br>
              <a:rPr sz="3200"/>
            </a:b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+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оксид серы (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IV)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или    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 сернистый газ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>
            <a:hlinkClick r:id="rId2" action="ppaction://hlinksldjump"/>
          </p:cNvPr>
          <p:cNvSpPr/>
          <p:nvPr/>
        </p:nvSpPr>
        <p:spPr>
          <a:xfrm>
            <a:off x="7596360" y="5950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3512" y="3837"/>
                </a:moveTo>
                <a:lnTo>
                  <a:pt x="16088" y="6448"/>
                </a:ln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lnTo>
                  <a:pt x="20475" y="10800"/>
                </a:lnTo>
                <a:lnTo>
                  <a:pt x="18821" y="10800"/>
                </a:lnTo>
                <a:lnTo>
                  <a:pt x="18821" y="17989"/>
                </a:lnTo>
                <a:lnTo>
                  <a:pt x="8203" y="17989"/>
                </a:lnTo>
                <a:lnTo>
                  <a:pt x="8203" y="10800"/>
                </a:lnTo>
                <a:lnTo>
                  <a:pt x="6549" y="10800"/>
                </a:lnTo>
                <a:close/>
              </a:path>
              <a:path fill="darkenLess" w="27024" h="21600">
                <a:moveTo>
                  <a:pt x="16088" y="6448"/>
                </a:move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close/>
              </a:path>
              <a:path fill="darkenLess" w="27024" h="21600">
                <a:moveTo>
                  <a:pt x="12589" y="14299"/>
                </a:moveTo>
                <a:lnTo>
                  <a:pt x="14434" y="14299"/>
                </a:lnTo>
                <a:lnTo>
                  <a:pt x="14434" y="17989"/>
                </a:lnTo>
                <a:lnTo>
                  <a:pt x="18821" y="17989"/>
                </a:lnTo>
                <a:lnTo>
                  <a:pt x="18821" y="10800"/>
                </a:lnTo>
                <a:lnTo>
                  <a:pt x="8203" y="10800"/>
                </a:lnTo>
                <a:lnTo>
                  <a:pt x="8203" y="17989"/>
                </a:lnTo>
                <a:lnTo>
                  <a:pt x="12589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524720" y="4581360"/>
            <a:ext cx="0" cy="43344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610920" y="549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вет на вопрос №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610640" y="375840"/>
            <a:ext cx="5864040" cy="6938640"/>
            <a:chOff x="1610640" y="375840"/>
            <a:chExt cx="5864040" cy="6938640"/>
          </a:xfrm>
        </p:grpSpPr>
        <p:sp>
          <p:nvSpPr>
            <p:cNvPr id="316" name=""/>
            <p:cNvSpPr/>
            <p:nvPr/>
          </p:nvSpPr>
          <p:spPr>
            <a:xfrm rot="11589000">
              <a:off x="1835280" y="2707560"/>
              <a:ext cx="2643120" cy="2282760"/>
            </a:xfrm>
            <a:custGeom>
              <a:avLst/>
              <a:gdLst/>
              <a:ahLst/>
              <a:rect l="l" t="t" r="r" b="b"/>
              <a:pathLst>
                <a:path w="102" h="88">
                  <a:moveTo>
                    <a:pt x="99" y="88"/>
                  </a:moveTo>
                  <a:cubicBezTo>
                    <a:pt x="101" y="80"/>
                    <a:pt x="102" y="72"/>
                    <a:pt x="102" y="65"/>
                  </a:cubicBezTo>
                  <a:cubicBezTo>
                    <a:pt x="102" y="41"/>
                    <a:pt x="93" y="18"/>
                    <a:pt x="79" y="0"/>
                  </a:cubicBezTo>
                  <a:lnTo>
                    <a:pt x="0" y="65"/>
                  </a:lnTo>
                  <a:lnTo>
                    <a:pt x="99" y="88"/>
                  </a:lnTo>
                  <a:close/>
                </a:path>
              </a:pathLst>
            </a:custGeom>
            <a:solidFill>
              <a:srgbClr val="ff3737"/>
            </a:solidFill>
            <a:ln w="27000">
              <a:solidFill>
                <a:srgbClr val="ff3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5996600">
              <a:off x="4945680" y="2262600"/>
              <a:ext cx="2305080" cy="2620800"/>
            </a:xfrm>
            <a:custGeom>
              <a:avLst/>
              <a:gdLst/>
              <a:ahLst/>
              <a:rect l="l" t="t" r="r" b="b"/>
              <a:pathLst>
                <a:path w="89" h="101">
                  <a:moveTo>
                    <a:pt x="0" y="91"/>
                  </a:moveTo>
                  <a:cubicBezTo>
                    <a:pt x="14" y="98"/>
                    <a:pt x="29" y="101"/>
                    <a:pt x="45" y="101"/>
                  </a:cubicBezTo>
                  <a:cubicBezTo>
                    <a:pt x="60" y="101"/>
                    <a:pt x="75" y="98"/>
                    <a:pt x="89" y="91"/>
                  </a:cubicBezTo>
                  <a:lnTo>
                    <a:pt x="45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00"/>
            </a:solidFill>
            <a:ln w="27000">
              <a:solidFill>
                <a:srgbClr val="ff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8638400">
              <a:off x="3449520" y="4381200"/>
              <a:ext cx="2590920" cy="2361960"/>
            </a:xfrm>
            <a:custGeom>
              <a:avLst/>
              <a:gdLst/>
              <a:ahLst/>
              <a:rect l="l" t="t" r="r" b="b"/>
              <a:pathLst>
                <a:path w="100" h="91">
                  <a:moveTo>
                    <a:pt x="0" y="23"/>
                  </a:moveTo>
                  <a:cubicBezTo>
                    <a:pt x="7" y="52"/>
                    <a:pt x="27" y="78"/>
                    <a:pt x="55" y="91"/>
                  </a:cubicBezTo>
                  <a:lnTo>
                    <a:pt x="10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9cc00"/>
            </a:solidFill>
            <a:ln w="270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485600">
              <a:off x="3203280" y="692280"/>
              <a:ext cx="2074680" cy="256536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79" y="0"/>
                  </a:moveTo>
                  <a:cubicBezTo>
                    <a:pt x="49" y="0"/>
                    <a:pt x="20" y="13"/>
                    <a:pt x="0" y="37"/>
                  </a:cubicBezTo>
                  <a:lnTo>
                    <a:pt x="80" y="10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33ccff"/>
            </a:solidFill>
            <a:ln w="27000">
              <a:solidFill>
                <a:srgbClr val="3d00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 txBox="1"/>
          <p:nvPr/>
        </p:nvSpPr>
        <p:spPr>
          <a:xfrm>
            <a:off x="324000" y="260280"/>
            <a:ext cx="3816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b8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й уровень</a:t>
            </a:r>
            <a:endParaRPr b="0" lang="en-US" sz="2400" spc="1" strike="noStrike">
              <a:ln w="19080">
                <a:solidFill>
                  <a:srgbClr val="ffb8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580000" y="4797360"/>
            <a:ext cx="33148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b8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бирайте</a:t>
            </a:r>
            <a:endParaRPr b="0" lang="en-US" sz="2400" spc="1" strike="noStrike">
              <a:ln w="19080">
                <a:solidFill>
                  <a:srgbClr val="ffb8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b800"/>
                  </a:solidFill>
                  <a:miter/>
                </a:ln>
                <a:solidFill>
                  <a:srgbClr val="00b2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</a:t>
            </a:r>
            <a:endParaRPr b="0" lang="en-US" sz="2400" spc="1" strike="noStrike">
              <a:ln w="19080">
                <a:solidFill>
                  <a:srgbClr val="ffb800"/>
                </a:solidFill>
                <a:miter/>
              </a:ln>
              <a:solidFill>
                <a:srgbClr val="00b2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>
            <a:hlinkClick r:id="rId2" action="ppaction://hlinksldjump"/>
          </p:cNvPr>
          <p:cNvSpPr/>
          <p:nvPr/>
        </p:nvSpPr>
        <p:spPr>
          <a:xfrm>
            <a:off x="611280" y="5805360"/>
            <a:ext cx="792000" cy="64800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97" h="21600">
                <a:moveTo>
                  <a:pt x="0" y="0"/>
                </a:moveTo>
                <a:lnTo>
                  <a:pt x="26397" y="0"/>
                </a:lnTo>
                <a:lnTo>
                  <a:pt x="26397" y="21600"/>
                </a:lnTo>
                <a:lnTo>
                  <a:pt x="0" y="21600"/>
                </a:lnTo>
                <a:close/>
              </a:path>
              <a:path fill="lightenLess" w="26397" h="21600">
                <a:moveTo>
                  <a:pt x="0" y="0"/>
                </a:moveTo>
                <a:lnTo>
                  <a:pt x="26397" y="0"/>
                </a:lnTo>
                <a:lnTo>
                  <a:pt x="24997" y="1400"/>
                </a:lnTo>
                <a:lnTo>
                  <a:pt x="1400" y="1400"/>
                </a:lnTo>
                <a:close/>
              </a:path>
              <a:path fill="darken" w="26397" h="21600">
                <a:moveTo>
                  <a:pt x="26397" y="0"/>
                </a:moveTo>
                <a:lnTo>
                  <a:pt x="26397" y="21600"/>
                </a:lnTo>
                <a:lnTo>
                  <a:pt x="24997" y="20200"/>
                </a:lnTo>
                <a:lnTo>
                  <a:pt x="24997" y="1400"/>
                </a:lnTo>
                <a:close/>
              </a:path>
              <a:path fill="darkenLess" w="26397" h="21600">
                <a:moveTo>
                  <a:pt x="26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7" y="20200"/>
                </a:lnTo>
                <a:close/>
              </a:path>
              <a:path fill="lighten" w="26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7" h="21600">
                <a:moveTo>
                  <a:pt x="6192" y="10800"/>
                </a:moveTo>
                <a:lnTo>
                  <a:pt x="20205" y="3794"/>
                </a:lnTo>
                <a:lnTo>
                  <a:pt x="2020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4720" y="1268280"/>
            <a:ext cx="6699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5148360" y="2997360"/>
            <a:ext cx="3240360" cy="814320"/>
            <a:chOff x="5148360" y="2997360"/>
            <a:chExt cx="3240360" cy="814320"/>
          </a:xfrm>
        </p:grpSpPr>
        <p:pic>
          <p:nvPicPr>
            <p:cNvPr id="325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 flipH="1">
              <a:off x="5148360" y="3287520"/>
              <a:ext cx="234144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565400" y="2997360"/>
              <a:ext cx="823320" cy="4827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635280" y="5157720"/>
            <a:ext cx="1800360" cy="9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"/>
          <p:cNvGraphicFramePr/>
          <p:nvPr/>
        </p:nvGraphicFramePr>
        <p:xfrm>
          <a:off x="2124000" y="2924280"/>
          <a:ext cx="951120" cy="132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9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4000" y="2924280"/>
                    <a:ext cx="95112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44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9000"/>
                            </p:stCondLst>
                            <p:childTnLst>
                              <p:par>
                                <p:cTn id="48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24000" y="981000"/>
            <a:ext cx="4735800" cy="4883040"/>
            <a:chOff x="324000" y="981000"/>
            <a:chExt cx="4735800" cy="4883040"/>
          </a:xfrm>
        </p:grpSpPr>
        <p:sp>
          <p:nvSpPr>
            <p:cNvPr id="168" name=""/>
            <p:cNvSpPr/>
            <p:nvPr/>
          </p:nvSpPr>
          <p:spPr>
            <a:xfrm>
              <a:off x="1125000" y="981000"/>
              <a:ext cx="3126960" cy="3138480"/>
            </a:xfrm>
            <a:prstGeom prst="ellipse">
              <a:avLst/>
            </a:prstGeom>
            <a:solidFill>
              <a:srgbClr val="ff7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2702520"/>
              <a:ext cx="3126960" cy="3140640"/>
            </a:xfrm>
            <a:prstGeom prst="ellipse">
              <a:avLst/>
            </a:prstGeom>
            <a:solidFill>
              <a:srgbClr val="ffe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30680" y="2723400"/>
              <a:ext cx="3129120" cy="3140640"/>
            </a:xfrm>
            <a:prstGeom prst="ellipse">
              <a:avLst/>
            </a:prstGeom>
            <a:solidFill>
              <a:srgbClr val="703d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65600" y="2932920"/>
              <a:ext cx="1461960" cy="1202400"/>
            </a:xfrm>
            <a:custGeom>
              <a:avLst/>
              <a:gdLst/>
              <a:ahLst/>
              <a:rect l="l" t="t" r="r" b="b"/>
              <a:pathLst>
                <a:path w="626" h="517">
                  <a:moveTo>
                    <a:pt x="318" y="0"/>
                  </a:moveTo>
                  <a:lnTo>
                    <a:pt x="300" y="11"/>
                  </a:lnTo>
                  <a:lnTo>
                    <a:pt x="280" y="25"/>
                  </a:lnTo>
                  <a:lnTo>
                    <a:pt x="258" y="41"/>
                  </a:lnTo>
                  <a:lnTo>
                    <a:pt x="239" y="55"/>
                  </a:lnTo>
                  <a:lnTo>
                    <a:pt x="220" y="72"/>
                  </a:lnTo>
                  <a:lnTo>
                    <a:pt x="205" y="86"/>
                  </a:lnTo>
                  <a:lnTo>
                    <a:pt x="186" y="104"/>
                  </a:lnTo>
                  <a:lnTo>
                    <a:pt x="169" y="120"/>
                  </a:lnTo>
                  <a:lnTo>
                    <a:pt x="149" y="143"/>
                  </a:lnTo>
                  <a:lnTo>
                    <a:pt x="131" y="165"/>
                  </a:lnTo>
                  <a:lnTo>
                    <a:pt x="115" y="184"/>
                  </a:lnTo>
                  <a:lnTo>
                    <a:pt x="96" y="210"/>
                  </a:lnTo>
                  <a:lnTo>
                    <a:pt x="81" y="232"/>
                  </a:lnTo>
                  <a:lnTo>
                    <a:pt x="68" y="255"/>
                  </a:lnTo>
                  <a:lnTo>
                    <a:pt x="54" y="280"/>
                  </a:lnTo>
                  <a:lnTo>
                    <a:pt x="42" y="304"/>
                  </a:lnTo>
                  <a:lnTo>
                    <a:pt x="29" y="335"/>
                  </a:lnTo>
                  <a:lnTo>
                    <a:pt x="19" y="365"/>
                  </a:lnTo>
                  <a:lnTo>
                    <a:pt x="10" y="394"/>
                  </a:lnTo>
                  <a:lnTo>
                    <a:pt x="5" y="417"/>
                  </a:lnTo>
                  <a:lnTo>
                    <a:pt x="0" y="437"/>
                  </a:lnTo>
                  <a:lnTo>
                    <a:pt x="22" y="451"/>
                  </a:lnTo>
                  <a:lnTo>
                    <a:pt x="49" y="462"/>
                  </a:lnTo>
                  <a:lnTo>
                    <a:pt x="80" y="474"/>
                  </a:lnTo>
                  <a:lnTo>
                    <a:pt x="114" y="485"/>
                  </a:lnTo>
                  <a:lnTo>
                    <a:pt x="153" y="497"/>
                  </a:lnTo>
                  <a:lnTo>
                    <a:pt x="191" y="505"/>
                  </a:lnTo>
                  <a:lnTo>
                    <a:pt x="221" y="510"/>
                  </a:lnTo>
                  <a:lnTo>
                    <a:pt x="253" y="514"/>
                  </a:lnTo>
                  <a:lnTo>
                    <a:pt x="285" y="516"/>
                  </a:lnTo>
                  <a:lnTo>
                    <a:pt x="313" y="517"/>
                  </a:lnTo>
                  <a:lnTo>
                    <a:pt x="349" y="516"/>
                  </a:lnTo>
                  <a:lnTo>
                    <a:pt x="386" y="511"/>
                  </a:lnTo>
                  <a:lnTo>
                    <a:pt x="427" y="506"/>
                  </a:lnTo>
                  <a:lnTo>
                    <a:pt x="462" y="499"/>
                  </a:lnTo>
                  <a:lnTo>
                    <a:pt x="491" y="492"/>
                  </a:lnTo>
                  <a:lnTo>
                    <a:pt x="522" y="482"/>
                  </a:lnTo>
                  <a:lnTo>
                    <a:pt x="544" y="473"/>
                  </a:lnTo>
                  <a:lnTo>
                    <a:pt x="568" y="464"/>
                  </a:lnTo>
                  <a:lnTo>
                    <a:pt x="590" y="455"/>
                  </a:lnTo>
                  <a:lnTo>
                    <a:pt x="614" y="443"/>
                  </a:lnTo>
                  <a:lnTo>
                    <a:pt x="626" y="436"/>
                  </a:lnTo>
                  <a:lnTo>
                    <a:pt x="622" y="411"/>
                  </a:lnTo>
                  <a:lnTo>
                    <a:pt x="615" y="386"/>
                  </a:lnTo>
                  <a:lnTo>
                    <a:pt x="607" y="360"/>
                  </a:lnTo>
                  <a:lnTo>
                    <a:pt x="594" y="326"/>
                  </a:lnTo>
                  <a:lnTo>
                    <a:pt x="577" y="291"/>
                  </a:lnTo>
                  <a:lnTo>
                    <a:pt x="557" y="253"/>
                  </a:lnTo>
                  <a:lnTo>
                    <a:pt x="540" y="226"/>
                  </a:lnTo>
                  <a:lnTo>
                    <a:pt x="522" y="197"/>
                  </a:lnTo>
                  <a:lnTo>
                    <a:pt x="507" y="175"/>
                  </a:lnTo>
                  <a:lnTo>
                    <a:pt x="484" y="146"/>
                  </a:lnTo>
                  <a:lnTo>
                    <a:pt x="466" y="124"/>
                  </a:lnTo>
                  <a:lnTo>
                    <a:pt x="446" y="104"/>
                  </a:lnTo>
                  <a:lnTo>
                    <a:pt x="419" y="78"/>
                  </a:lnTo>
                  <a:lnTo>
                    <a:pt x="400" y="61"/>
                  </a:lnTo>
                  <a:lnTo>
                    <a:pt x="377" y="42"/>
                  </a:lnTo>
                  <a:lnTo>
                    <a:pt x="348" y="2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6600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64960" y="2707200"/>
              <a:ext cx="1550520" cy="1244520"/>
            </a:xfrm>
            <a:custGeom>
              <a:avLst/>
              <a:gdLst/>
              <a:ahLst/>
              <a:rect l="l" t="t" r="r" b="b"/>
              <a:pathLst>
                <a:path w="664" h="535">
                  <a:moveTo>
                    <a:pt x="2" y="77"/>
                  </a:moveTo>
                  <a:lnTo>
                    <a:pt x="15" y="70"/>
                  </a:lnTo>
                  <a:lnTo>
                    <a:pt x="42" y="56"/>
                  </a:lnTo>
                  <a:lnTo>
                    <a:pt x="70" y="46"/>
                  </a:lnTo>
                  <a:lnTo>
                    <a:pt x="90" y="37"/>
                  </a:lnTo>
                  <a:lnTo>
                    <a:pt x="117" y="28"/>
                  </a:lnTo>
                  <a:lnTo>
                    <a:pt x="148" y="20"/>
                  </a:lnTo>
                  <a:lnTo>
                    <a:pt x="176" y="14"/>
                  </a:lnTo>
                  <a:lnTo>
                    <a:pt x="204" y="9"/>
                  </a:lnTo>
                  <a:lnTo>
                    <a:pt x="230" y="5"/>
                  </a:lnTo>
                  <a:lnTo>
                    <a:pt x="256" y="3"/>
                  </a:lnTo>
                  <a:lnTo>
                    <a:pt x="283" y="0"/>
                  </a:lnTo>
                  <a:lnTo>
                    <a:pt x="312" y="0"/>
                  </a:lnTo>
                  <a:lnTo>
                    <a:pt x="340" y="0"/>
                  </a:lnTo>
                  <a:lnTo>
                    <a:pt x="371" y="3"/>
                  </a:lnTo>
                  <a:lnTo>
                    <a:pt x="404" y="6"/>
                  </a:lnTo>
                  <a:lnTo>
                    <a:pt x="429" y="10"/>
                  </a:lnTo>
                  <a:lnTo>
                    <a:pt x="455" y="15"/>
                  </a:lnTo>
                  <a:lnTo>
                    <a:pt x="483" y="22"/>
                  </a:lnTo>
                  <a:lnTo>
                    <a:pt x="510" y="29"/>
                  </a:lnTo>
                  <a:lnTo>
                    <a:pt x="535" y="38"/>
                  </a:lnTo>
                  <a:lnTo>
                    <a:pt x="563" y="50"/>
                  </a:lnTo>
                  <a:lnTo>
                    <a:pt x="590" y="60"/>
                  </a:lnTo>
                  <a:lnTo>
                    <a:pt x="618" y="73"/>
                  </a:lnTo>
                  <a:lnTo>
                    <a:pt x="640" y="83"/>
                  </a:lnTo>
                  <a:lnTo>
                    <a:pt x="664" y="97"/>
                  </a:lnTo>
                  <a:lnTo>
                    <a:pt x="647" y="106"/>
                  </a:lnTo>
                  <a:lnTo>
                    <a:pt x="628" y="119"/>
                  </a:lnTo>
                  <a:lnTo>
                    <a:pt x="612" y="133"/>
                  </a:lnTo>
                  <a:lnTo>
                    <a:pt x="594" y="144"/>
                  </a:lnTo>
                  <a:lnTo>
                    <a:pt x="582" y="153"/>
                  </a:lnTo>
                  <a:lnTo>
                    <a:pt x="564" y="170"/>
                  </a:lnTo>
                  <a:lnTo>
                    <a:pt x="548" y="185"/>
                  </a:lnTo>
                  <a:lnTo>
                    <a:pt x="533" y="199"/>
                  </a:lnTo>
                  <a:lnTo>
                    <a:pt x="516" y="216"/>
                  </a:lnTo>
                  <a:lnTo>
                    <a:pt x="497" y="235"/>
                  </a:lnTo>
                  <a:lnTo>
                    <a:pt x="484" y="250"/>
                  </a:lnTo>
                  <a:lnTo>
                    <a:pt x="472" y="264"/>
                  </a:lnTo>
                  <a:lnTo>
                    <a:pt x="458" y="282"/>
                  </a:lnTo>
                  <a:lnTo>
                    <a:pt x="443" y="303"/>
                  </a:lnTo>
                  <a:lnTo>
                    <a:pt x="427" y="326"/>
                  </a:lnTo>
                  <a:lnTo>
                    <a:pt x="411" y="354"/>
                  </a:lnTo>
                  <a:lnTo>
                    <a:pt x="399" y="375"/>
                  </a:lnTo>
                  <a:lnTo>
                    <a:pt x="387" y="398"/>
                  </a:lnTo>
                  <a:lnTo>
                    <a:pt x="376" y="425"/>
                  </a:lnTo>
                  <a:lnTo>
                    <a:pt x="364" y="458"/>
                  </a:lnTo>
                  <a:lnTo>
                    <a:pt x="357" y="481"/>
                  </a:lnTo>
                  <a:lnTo>
                    <a:pt x="351" y="498"/>
                  </a:lnTo>
                  <a:lnTo>
                    <a:pt x="346" y="519"/>
                  </a:lnTo>
                  <a:lnTo>
                    <a:pt x="344" y="535"/>
                  </a:lnTo>
                  <a:lnTo>
                    <a:pt x="326" y="526"/>
                  </a:lnTo>
                  <a:lnTo>
                    <a:pt x="303" y="512"/>
                  </a:lnTo>
                  <a:lnTo>
                    <a:pt x="285" y="501"/>
                  </a:lnTo>
                  <a:lnTo>
                    <a:pt x="265" y="486"/>
                  </a:lnTo>
                  <a:lnTo>
                    <a:pt x="246" y="474"/>
                  </a:lnTo>
                  <a:lnTo>
                    <a:pt x="218" y="452"/>
                  </a:lnTo>
                  <a:lnTo>
                    <a:pt x="190" y="426"/>
                  </a:lnTo>
                  <a:lnTo>
                    <a:pt x="168" y="406"/>
                  </a:lnTo>
                  <a:lnTo>
                    <a:pt x="151" y="388"/>
                  </a:lnTo>
                  <a:lnTo>
                    <a:pt x="133" y="365"/>
                  </a:lnTo>
                  <a:lnTo>
                    <a:pt x="115" y="342"/>
                  </a:lnTo>
                  <a:lnTo>
                    <a:pt x="99" y="319"/>
                  </a:lnTo>
                  <a:lnTo>
                    <a:pt x="84" y="295"/>
                  </a:lnTo>
                  <a:lnTo>
                    <a:pt x="68" y="268"/>
                  </a:lnTo>
                  <a:lnTo>
                    <a:pt x="54" y="241"/>
                  </a:lnTo>
                  <a:lnTo>
                    <a:pt x="40" y="212"/>
                  </a:lnTo>
                  <a:lnTo>
                    <a:pt x="29" y="187"/>
                  </a:lnTo>
                  <a:lnTo>
                    <a:pt x="20" y="160"/>
                  </a:lnTo>
                  <a:lnTo>
                    <a:pt x="12" y="135"/>
                  </a:lnTo>
                  <a:lnTo>
                    <a:pt x="6" y="114"/>
                  </a:lnTo>
                  <a:lnTo>
                    <a:pt x="2" y="97"/>
                  </a:lnTo>
                  <a:lnTo>
                    <a:pt x="0" y="75"/>
                  </a:lnTo>
                  <a:lnTo>
                    <a:pt x="2" y="77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05760" y="2709360"/>
              <a:ext cx="1518120" cy="1247040"/>
            </a:xfrm>
            <a:custGeom>
              <a:avLst/>
              <a:gdLst/>
              <a:ahLst/>
              <a:rect l="l" t="t" r="r" b="b"/>
              <a:pathLst>
                <a:path w="650" h="536">
                  <a:moveTo>
                    <a:pt x="650" y="93"/>
                  </a:moveTo>
                  <a:lnTo>
                    <a:pt x="650" y="83"/>
                  </a:lnTo>
                  <a:lnTo>
                    <a:pt x="629" y="69"/>
                  </a:lnTo>
                  <a:lnTo>
                    <a:pt x="607" y="56"/>
                  </a:lnTo>
                  <a:lnTo>
                    <a:pt x="582" y="45"/>
                  </a:lnTo>
                  <a:lnTo>
                    <a:pt x="555" y="36"/>
                  </a:lnTo>
                  <a:lnTo>
                    <a:pt x="528" y="27"/>
                  </a:lnTo>
                  <a:lnTo>
                    <a:pt x="501" y="19"/>
                  </a:lnTo>
                  <a:lnTo>
                    <a:pt x="472" y="13"/>
                  </a:lnTo>
                  <a:lnTo>
                    <a:pt x="446" y="9"/>
                  </a:lnTo>
                  <a:lnTo>
                    <a:pt x="421" y="5"/>
                  </a:lnTo>
                  <a:lnTo>
                    <a:pt x="397" y="3"/>
                  </a:lnTo>
                  <a:lnTo>
                    <a:pt x="371" y="2"/>
                  </a:lnTo>
                  <a:lnTo>
                    <a:pt x="340" y="0"/>
                  </a:lnTo>
                  <a:lnTo>
                    <a:pt x="311" y="2"/>
                  </a:lnTo>
                  <a:lnTo>
                    <a:pt x="281" y="3"/>
                  </a:lnTo>
                  <a:lnTo>
                    <a:pt x="254" y="5"/>
                  </a:lnTo>
                  <a:lnTo>
                    <a:pt x="221" y="10"/>
                  </a:lnTo>
                  <a:lnTo>
                    <a:pt x="195" y="16"/>
                  </a:lnTo>
                  <a:lnTo>
                    <a:pt x="168" y="22"/>
                  </a:lnTo>
                  <a:lnTo>
                    <a:pt x="141" y="30"/>
                  </a:lnTo>
                  <a:lnTo>
                    <a:pt x="113" y="40"/>
                  </a:lnTo>
                  <a:lnTo>
                    <a:pt x="83" y="51"/>
                  </a:lnTo>
                  <a:lnTo>
                    <a:pt x="54" y="64"/>
                  </a:lnTo>
                  <a:lnTo>
                    <a:pt x="33" y="74"/>
                  </a:lnTo>
                  <a:lnTo>
                    <a:pt x="10" y="87"/>
                  </a:lnTo>
                  <a:lnTo>
                    <a:pt x="0" y="97"/>
                  </a:lnTo>
                  <a:lnTo>
                    <a:pt x="14" y="106"/>
                  </a:lnTo>
                  <a:lnTo>
                    <a:pt x="28" y="116"/>
                  </a:lnTo>
                  <a:lnTo>
                    <a:pt x="41" y="125"/>
                  </a:lnTo>
                  <a:lnTo>
                    <a:pt x="54" y="135"/>
                  </a:lnTo>
                  <a:lnTo>
                    <a:pt x="66" y="145"/>
                  </a:lnTo>
                  <a:lnTo>
                    <a:pt x="88" y="163"/>
                  </a:lnTo>
                  <a:lnTo>
                    <a:pt x="102" y="177"/>
                  </a:lnTo>
                  <a:lnTo>
                    <a:pt x="120" y="192"/>
                  </a:lnTo>
                  <a:lnTo>
                    <a:pt x="139" y="211"/>
                  </a:lnTo>
                  <a:lnTo>
                    <a:pt x="154" y="226"/>
                  </a:lnTo>
                  <a:lnTo>
                    <a:pt x="168" y="244"/>
                  </a:lnTo>
                  <a:lnTo>
                    <a:pt x="183" y="262"/>
                  </a:lnTo>
                  <a:lnTo>
                    <a:pt x="195" y="279"/>
                  </a:lnTo>
                  <a:lnTo>
                    <a:pt x="209" y="300"/>
                  </a:lnTo>
                  <a:lnTo>
                    <a:pt x="225" y="325"/>
                  </a:lnTo>
                  <a:lnTo>
                    <a:pt x="241" y="353"/>
                  </a:lnTo>
                  <a:lnTo>
                    <a:pt x="253" y="374"/>
                  </a:lnTo>
                  <a:lnTo>
                    <a:pt x="264" y="397"/>
                  </a:lnTo>
                  <a:lnTo>
                    <a:pt x="277" y="424"/>
                  </a:lnTo>
                  <a:lnTo>
                    <a:pt x="287" y="452"/>
                  </a:lnTo>
                  <a:lnTo>
                    <a:pt x="296" y="477"/>
                  </a:lnTo>
                  <a:lnTo>
                    <a:pt x="304" y="502"/>
                  </a:lnTo>
                  <a:lnTo>
                    <a:pt x="306" y="523"/>
                  </a:lnTo>
                  <a:lnTo>
                    <a:pt x="307" y="536"/>
                  </a:lnTo>
                  <a:lnTo>
                    <a:pt x="328" y="525"/>
                  </a:lnTo>
                  <a:lnTo>
                    <a:pt x="351" y="511"/>
                  </a:lnTo>
                  <a:lnTo>
                    <a:pt x="369" y="500"/>
                  </a:lnTo>
                  <a:lnTo>
                    <a:pt x="389" y="485"/>
                  </a:lnTo>
                  <a:lnTo>
                    <a:pt x="408" y="473"/>
                  </a:lnTo>
                  <a:lnTo>
                    <a:pt x="436" y="451"/>
                  </a:lnTo>
                  <a:lnTo>
                    <a:pt x="464" y="425"/>
                  </a:lnTo>
                  <a:lnTo>
                    <a:pt x="486" y="405"/>
                  </a:lnTo>
                  <a:lnTo>
                    <a:pt x="502" y="386"/>
                  </a:lnTo>
                  <a:lnTo>
                    <a:pt x="520" y="364"/>
                  </a:lnTo>
                  <a:lnTo>
                    <a:pt x="537" y="341"/>
                  </a:lnTo>
                  <a:lnTo>
                    <a:pt x="554" y="318"/>
                  </a:lnTo>
                  <a:lnTo>
                    <a:pt x="569" y="294"/>
                  </a:lnTo>
                  <a:lnTo>
                    <a:pt x="585" y="267"/>
                  </a:lnTo>
                  <a:lnTo>
                    <a:pt x="599" y="240"/>
                  </a:lnTo>
                  <a:lnTo>
                    <a:pt x="613" y="212"/>
                  </a:lnTo>
                  <a:lnTo>
                    <a:pt x="624" y="188"/>
                  </a:lnTo>
                  <a:lnTo>
                    <a:pt x="633" y="159"/>
                  </a:lnTo>
                  <a:lnTo>
                    <a:pt x="641" y="129"/>
                  </a:lnTo>
                  <a:lnTo>
                    <a:pt x="650" y="92"/>
                  </a:lnTo>
                  <a:lnTo>
                    <a:pt x="650" y="93"/>
                  </a:lnTo>
                  <a:close/>
                </a:path>
              </a:pathLst>
            </a:custGeom>
            <a:solidFill>
              <a:srgbClr val="b194f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33200" y="3949560"/>
              <a:ext cx="1527120" cy="1693440"/>
            </a:xfrm>
            <a:custGeom>
              <a:avLst/>
              <a:gdLst/>
              <a:ahLst/>
              <a:rect l="l" t="t" r="r" b="b"/>
              <a:pathLst>
                <a:path w="654" h="728">
                  <a:moveTo>
                    <a:pt x="15" y="1"/>
                  </a:moveTo>
                  <a:lnTo>
                    <a:pt x="33" y="13"/>
                  </a:lnTo>
                  <a:lnTo>
                    <a:pt x="53" y="22"/>
                  </a:lnTo>
                  <a:lnTo>
                    <a:pt x="71" y="29"/>
                  </a:lnTo>
                  <a:lnTo>
                    <a:pt x="99" y="40"/>
                  </a:lnTo>
                  <a:lnTo>
                    <a:pt x="123" y="47"/>
                  </a:lnTo>
                  <a:lnTo>
                    <a:pt x="149" y="55"/>
                  </a:lnTo>
                  <a:lnTo>
                    <a:pt x="177" y="61"/>
                  </a:lnTo>
                  <a:lnTo>
                    <a:pt x="205" y="68"/>
                  </a:lnTo>
                  <a:lnTo>
                    <a:pt x="235" y="73"/>
                  </a:lnTo>
                  <a:lnTo>
                    <a:pt x="270" y="77"/>
                  </a:lnTo>
                  <a:lnTo>
                    <a:pt x="304" y="80"/>
                  </a:lnTo>
                  <a:lnTo>
                    <a:pt x="335" y="80"/>
                  </a:lnTo>
                  <a:lnTo>
                    <a:pt x="373" y="80"/>
                  </a:lnTo>
                  <a:lnTo>
                    <a:pt x="415" y="73"/>
                  </a:lnTo>
                  <a:lnTo>
                    <a:pt x="447" y="69"/>
                  </a:lnTo>
                  <a:lnTo>
                    <a:pt x="470" y="64"/>
                  </a:lnTo>
                  <a:lnTo>
                    <a:pt x="499" y="57"/>
                  </a:lnTo>
                  <a:lnTo>
                    <a:pt x="522" y="50"/>
                  </a:lnTo>
                  <a:lnTo>
                    <a:pt x="544" y="42"/>
                  </a:lnTo>
                  <a:lnTo>
                    <a:pt x="571" y="31"/>
                  </a:lnTo>
                  <a:lnTo>
                    <a:pt x="591" y="23"/>
                  </a:lnTo>
                  <a:lnTo>
                    <a:pt x="610" y="14"/>
                  </a:lnTo>
                  <a:lnTo>
                    <a:pt x="626" y="8"/>
                  </a:lnTo>
                  <a:lnTo>
                    <a:pt x="638" y="0"/>
                  </a:lnTo>
                  <a:lnTo>
                    <a:pt x="643" y="20"/>
                  </a:lnTo>
                  <a:lnTo>
                    <a:pt x="646" y="40"/>
                  </a:lnTo>
                  <a:lnTo>
                    <a:pt x="647" y="57"/>
                  </a:lnTo>
                  <a:lnTo>
                    <a:pt x="651" y="89"/>
                  </a:lnTo>
                  <a:lnTo>
                    <a:pt x="652" y="112"/>
                  </a:lnTo>
                  <a:lnTo>
                    <a:pt x="654" y="134"/>
                  </a:lnTo>
                  <a:lnTo>
                    <a:pt x="654" y="153"/>
                  </a:lnTo>
                  <a:lnTo>
                    <a:pt x="651" y="184"/>
                  </a:lnTo>
                  <a:lnTo>
                    <a:pt x="650" y="207"/>
                  </a:lnTo>
                  <a:lnTo>
                    <a:pt x="647" y="234"/>
                  </a:lnTo>
                  <a:lnTo>
                    <a:pt x="642" y="265"/>
                  </a:lnTo>
                  <a:lnTo>
                    <a:pt x="638" y="291"/>
                  </a:lnTo>
                  <a:lnTo>
                    <a:pt x="628" y="329"/>
                  </a:lnTo>
                  <a:lnTo>
                    <a:pt x="619" y="359"/>
                  </a:lnTo>
                  <a:lnTo>
                    <a:pt x="608" y="387"/>
                  </a:lnTo>
                  <a:lnTo>
                    <a:pt x="598" y="412"/>
                  </a:lnTo>
                  <a:lnTo>
                    <a:pt x="584" y="442"/>
                  </a:lnTo>
                  <a:lnTo>
                    <a:pt x="570" y="470"/>
                  </a:lnTo>
                  <a:lnTo>
                    <a:pt x="556" y="493"/>
                  </a:lnTo>
                  <a:lnTo>
                    <a:pt x="540" y="517"/>
                  </a:lnTo>
                  <a:lnTo>
                    <a:pt x="521" y="546"/>
                  </a:lnTo>
                  <a:lnTo>
                    <a:pt x="499" y="576"/>
                  </a:lnTo>
                  <a:lnTo>
                    <a:pt x="478" y="599"/>
                  </a:lnTo>
                  <a:lnTo>
                    <a:pt x="455" y="624"/>
                  </a:lnTo>
                  <a:lnTo>
                    <a:pt x="429" y="647"/>
                  </a:lnTo>
                  <a:lnTo>
                    <a:pt x="402" y="669"/>
                  </a:lnTo>
                  <a:lnTo>
                    <a:pt x="382" y="686"/>
                  </a:lnTo>
                  <a:lnTo>
                    <a:pt x="363" y="701"/>
                  </a:lnTo>
                  <a:lnTo>
                    <a:pt x="340" y="715"/>
                  </a:lnTo>
                  <a:lnTo>
                    <a:pt x="322" y="728"/>
                  </a:lnTo>
                  <a:lnTo>
                    <a:pt x="303" y="716"/>
                  </a:lnTo>
                  <a:lnTo>
                    <a:pt x="286" y="705"/>
                  </a:lnTo>
                  <a:lnTo>
                    <a:pt x="262" y="687"/>
                  </a:lnTo>
                  <a:lnTo>
                    <a:pt x="243" y="672"/>
                  </a:lnTo>
                  <a:lnTo>
                    <a:pt x="223" y="655"/>
                  </a:lnTo>
                  <a:lnTo>
                    <a:pt x="205" y="638"/>
                  </a:lnTo>
                  <a:lnTo>
                    <a:pt x="183" y="617"/>
                  </a:lnTo>
                  <a:lnTo>
                    <a:pt x="163" y="592"/>
                  </a:lnTo>
                  <a:lnTo>
                    <a:pt x="136" y="558"/>
                  </a:lnTo>
                  <a:lnTo>
                    <a:pt x="117" y="532"/>
                  </a:lnTo>
                  <a:lnTo>
                    <a:pt x="101" y="509"/>
                  </a:lnTo>
                  <a:lnTo>
                    <a:pt x="84" y="479"/>
                  </a:lnTo>
                  <a:lnTo>
                    <a:pt x="71" y="455"/>
                  </a:lnTo>
                  <a:lnTo>
                    <a:pt x="57" y="424"/>
                  </a:lnTo>
                  <a:lnTo>
                    <a:pt x="45" y="396"/>
                  </a:lnTo>
                  <a:lnTo>
                    <a:pt x="36" y="372"/>
                  </a:lnTo>
                  <a:lnTo>
                    <a:pt x="25" y="335"/>
                  </a:lnTo>
                  <a:lnTo>
                    <a:pt x="17" y="309"/>
                  </a:lnTo>
                  <a:lnTo>
                    <a:pt x="10" y="274"/>
                  </a:lnTo>
                  <a:lnTo>
                    <a:pt x="6" y="248"/>
                  </a:lnTo>
                  <a:lnTo>
                    <a:pt x="1" y="207"/>
                  </a:lnTo>
                  <a:lnTo>
                    <a:pt x="0" y="176"/>
                  </a:lnTo>
                  <a:lnTo>
                    <a:pt x="0" y="140"/>
                  </a:lnTo>
                  <a:lnTo>
                    <a:pt x="1" y="103"/>
                  </a:lnTo>
                  <a:lnTo>
                    <a:pt x="3" y="74"/>
                  </a:lnTo>
                  <a:lnTo>
                    <a:pt x="7" y="43"/>
                  </a:lnTo>
                  <a:lnTo>
                    <a:pt x="11" y="19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b2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512720" cy="1476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1137960" cy="1273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1150920" cy="1216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619280" y="3213000"/>
            <a:ext cx="1511280" cy="765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076720" y="314172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Обобщающее повторение 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по теме 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ислород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ксиды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орение</a:t>
            </a: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24360" y="5877000"/>
            <a:ext cx="266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703dff"/>
                  </a:solidFill>
                  <a:miter/>
                </a:ln>
                <a:gradFill rotWithShape="0">
                  <a:gsLst>
                    <a:gs pos="0">
                      <a:srgbClr val="b194f8"/>
                    </a:gs>
                    <a:gs pos="50000">
                      <a:srgbClr val="ffff00"/>
                    </a:gs>
                    <a:gs pos="100000">
                      <a:srgbClr val="b194f8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мназия </a:t>
            </a:r>
            <a:endParaRPr b="0" lang="en-US" sz="2400" spc="1" strike="noStrike">
              <a:ln w="9360">
                <a:solidFill>
                  <a:srgbClr val="703dff"/>
                </a:solidFill>
                <a:miter/>
              </a:ln>
              <a:gradFill rotWithShape="0">
                <a:gsLst>
                  <a:gs pos="0">
                    <a:srgbClr val="b194f8"/>
                  </a:gs>
                  <a:gs pos="50000">
                    <a:srgbClr val="ffff00"/>
                  </a:gs>
                  <a:gs pos="100000">
                    <a:srgbClr val="b194f8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703dff"/>
                  </a:solidFill>
                  <a:miter/>
                </a:ln>
                <a:gradFill rotWithShape="0">
                  <a:gsLst>
                    <a:gs pos="0">
                      <a:srgbClr val="b194f8"/>
                    </a:gs>
                    <a:gs pos="50000">
                      <a:srgbClr val="ffff00"/>
                    </a:gs>
                    <a:gs pos="100000">
                      <a:srgbClr val="b194f8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Дмитров"</a:t>
            </a:r>
            <a:endParaRPr b="0" lang="en-US" sz="2400" spc="1" strike="noStrike">
              <a:ln w="9360">
                <a:solidFill>
                  <a:srgbClr val="703dff"/>
                </a:solidFill>
                <a:miter/>
              </a:ln>
              <a:gradFill rotWithShape="0">
                <a:gsLst>
                  <a:gs pos="0">
                    <a:srgbClr val="b194f8"/>
                  </a:gs>
                  <a:gs pos="50000">
                    <a:srgbClr val="ffff00"/>
                  </a:gs>
                  <a:gs pos="100000">
                    <a:srgbClr val="b194f8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3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74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дача от царя Горох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2050920" y="1844640"/>
            <a:ext cx="6336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В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0 кг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сухих семян гороха содержится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17,5 г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оксида калия,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4 г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оксида кальция 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9 г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оксида магни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1439640" cy="3095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68360" y="4581360"/>
            <a:ext cx="597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колько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г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атомарного кислорода не досчитается казна, если кролики съел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20 кг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горох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 flipH="1">
            <a:off x="6084720" y="3284640"/>
            <a:ext cx="2657520" cy="2111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16360" y="4292640"/>
            <a:ext cx="360360" cy="360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64000" y="4005360"/>
            <a:ext cx="360360" cy="3603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67280" y="4292640"/>
            <a:ext cx="360360" cy="360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19640" y="4221000"/>
            <a:ext cx="360360" cy="360360"/>
          </a:xfrm>
          <a:prstGeom prst="ellipse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77080" y="5516640"/>
            <a:ext cx="360360" cy="360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7885080" y="595008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1217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46" h="21600">
                <a:moveTo>
                  <a:pt x="1217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46" h="21600">
                <a:moveTo>
                  <a:pt x="9597" y="8224"/>
                </a:moveTo>
                <a:lnTo>
                  <a:pt x="13461" y="8224"/>
                </a:lnTo>
                <a:lnTo>
                  <a:pt x="13461" y="15221"/>
                </a:lnTo>
                <a:lnTo>
                  <a:pt x="14749" y="15221"/>
                </a:lnTo>
                <a:lnTo>
                  <a:pt x="14749" y="16144"/>
                </a:lnTo>
                <a:lnTo>
                  <a:pt x="9597" y="16144"/>
                </a:lnTo>
                <a:lnTo>
                  <a:pt x="9597" y="15221"/>
                </a:lnTo>
                <a:lnTo>
                  <a:pt x="10885" y="15221"/>
                </a:lnTo>
                <a:lnTo>
                  <a:pt x="10885" y="9129"/>
                </a:lnTo>
                <a:lnTo>
                  <a:pt x="9597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-360" y="80928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buClr>
                <a:srgbClr val="00b2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Найдем массы веществ в 20 кг гороха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) = 117,5*2 = 235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O) = 14*2 = 28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(MgO) = 19*2 = 38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buClr>
                <a:srgbClr val="00b2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Определим молярные массы оксидов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)= 94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/моль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O)=56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/мол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(MgO)=4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/мо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buClr>
                <a:srgbClr val="00b2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По формуле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=m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рассчитаем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n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каждого оксид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235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4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= 2,5 мол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O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28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= 0,5 мол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(MgO)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38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= 0,95 мол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 algn="just"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 (O)= n(K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) + n(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O) + n(MgO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(O) = 2,5 +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0,9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3,95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л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121120" indent="-365400">
              <a:buClr>
                <a:srgbClr val="00b200"/>
              </a:buClr>
              <a:buFont typeface="Comic Sans MS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Найдем массу кислорода по формул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 = M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m (O) = 16*3,95 = 63,2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12112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63,2 г атомарного кислорода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042920" y="0"/>
            <a:ext cx="65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ешение задачи от царя Горох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-252360" y="5056200"/>
            <a:ext cx="2268360" cy="180180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7596360" y="37162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7493"/>
                </a:moveTo>
                <a:lnTo>
                  <a:pt x="8369" y="7493"/>
                </a:lnTo>
                <a:lnTo>
                  <a:pt x="8369" y="12828"/>
                </a:lnTo>
                <a:cubicBezTo>
                  <a:pt x="8369" y="13751"/>
                  <a:pt x="9169" y="14482"/>
                  <a:pt x="10205" y="14482"/>
                </a:cubicBezTo>
                <a:lnTo>
                  <a:pt x="11868" y="14482"/>
                </a:lnTo>
                <a:cubicBezTo>
                  <a:pt x="12903" y="14482"/>
                  <a:pt x="13704" y="13751"/>
                  <a:pt x="13704" y="12828"/>
                </a:cubicBezTo>
                <a:lnTo>
                  <a:pt x="13704" y="7493"/>
                </a:lnTo>
                <a:lnTo>
                  <a:pt x="11868" y="7493"/>
                </a:lnTo>
                <a:lnTo>
                  <a:pt x="15375" y="3985"/>
                </a:lnTo>
                <a:lnTo>
                  <a:pt x="19048" y="7493"/>
                </a:lnTo>
                <a:lnTo>
                  <a:pt x="17212" y="7493"/>
                </a:lnTo>
                <a:lnTo>
                  <a:pt x="17212" y="12828"/>
                </a:lnTo>
                <a:cubicBezTo>
                  <a:pt x="17212" y="15596"/>
                  <a:pt x="14635" y="18155"/>
                  <a:pt x="11868" y="18155"/>
                </a:cubicBezTo>
                <a:lnTo>
                  <a:pt x="10205" y="18155"/>
                </a:lnTo>
                <a:cubicBezTo>
                  <a:pt x="7437" y="18155"/>
                  <a:pt x="4861" y="15596"/>
                  <a:pt x="4861" y="12828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кологическая задач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23640" y="1413000"/>
            <a:ext cx="5327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 сутки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человек вдыхает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приблизительно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5  кг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 воздух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24000" y="2060640"/>
            <a:ext cx="6227640" cy="1821960"/>
            <a:chOff x="324000" y="2060640"/>
            <a:chExt cx="6227640" cy="182196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51280" y="2709720"/>
              <a:ext cx="4500360" cy="11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flipH="1">
              <a:off x="324000" y="2060640"/>
              <a:ext cx="1582560" cy="108072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874880" cy="26686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539640" y="4437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При работе двигателя внутреннего сгорания автомобиля расходуетс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825 кг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кислорода на каждые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00 км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пу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Рассчитайте, сколько времени мог бы дышать этим кислородом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7740720" y="342900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1217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46" h="21600">
                <a:moveTo>
                  <a:pt x="1217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46" h="21600">
                <a:moveTo>
                  <a:pt x="9597" y="8224"/>
                </a:moveTo>
                <a:lnTo>
                  <a:pt x="13461" y="8224"/>
                </a:lnTo>
                <a:lnTo>
                  <a:pt x="13461" y="15221"/>
                </a:lnTo>
                <a:lnTo>
                  <a:pt x="14749" y="15221"/>
                </a:lnTo>
                <a:lnTo>
                  <a:pt x="14749" y="16144"/>
                </a:lnTo>
                <a:lnTo>
                  <a:pt x="9597" y="16144"/>
                </a:lnTo>
                <a:lnTo>
                  <a:pt x="9597" y="15221"/>
                </a:lnTo>
                <a:lnTo>
                  <a:pt x="10885" y="15221"/>
                </a:lnTo>
                <a:lnTo>
                  <a:pt x="10885" y="9129"/>
                </a:lnTo>
                <a:lnTo>
                  <a:pt x="9597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Решение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экологической задач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b2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Определим массу воздуха,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содержащего 1825 кг кислород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825 кг 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23 % от массы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кг воздуха – 100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825 : х = 23 : 100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 7934,8 кг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b20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Рассчитаем число суток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934,8 : 25 = 317,4 (суто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317 суток и 10 часов мог бы дышать этим воздухом челове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>
            <a:hlinkClick r:id="rId2" action="ppaction://hlinksldjump"/>
          </p:cNvPr>
          <p:cNvSpPr/>
          <p:nvPr/>
        </p:nvSpPr>
        <p:spPr>
          <a:xfrm>
            <a:off x="7596360" y="37162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7493"/>
                </a:moveTo>
                <a:lnTo>
                  <a:pt x="8369" y="7493"/>
                </a:lnTo>
                <a:lnTo>
                  <a:pt x="8369" y="12828"/>
                </a:lnTo>
                <a:cubicBezTo>
                  <a:pt x="8369" y="13751"/>
                  <a:pt x="9169" y="14482"/>
                  <a:pt x="10205" y="14482"/>
                </a:cubicBezTo>
                <a:lnTo>
                  <a:pt x="11868" y="14482"/>
                </a:lnTo>
                <a:cubicBezTo>
                  <a:pt x="12903" y="14482"/>
                  <a:pt x="13704" y="13751"/>
                  <a:pt x="13704" y="12828"/>
                </a:cubicBezTo>
                <a:lnTo>
                  <a:pt x="13704" y="7493"/>
                </a:lnTo>
                <a:lnTo>
                  <a:pt x="11868" y="7493"/>
                </a:lnTo>
                <a:lnTo>
                  <a:pt x="15375" y="3985"/>
                </a:lnTo>
                <a:lnTo>
                  <a:pt x="19048" y="7493"/>
                </a:lnTo>
                <a:lnTo>
                  <a:pt x="17212" y="7493"/>
                </a:lnTo>
                <a:lnTo>
                  <a:pt x="17212" y="12828"/>
                </a:lnTo>
                <a:cubicBezTo>
                  <a:pt x="17212" y="15596"/>
                  <a:pt x="14635" y="18155"/>
                  <a:pt x="11868" y="18155"/>
                </a:cubicBezTo>
                <a:lnTo>
                  <a:pt x="10205" y="18155"/>
                </a:lnTo>
                <a:cubicBezTo>
                  <a:pt x="7437" y="18155"/>
                  <a:pt x="4861" y="15596"/>
                  <a:pt x="4861" y="12828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37414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Найди элемен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6960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еред вами текст, в котором «спрятались» несколько названий химических элементов 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айдите и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уквы должны идти только подряд, образуя название элемента в  именительном падеж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8172360" y="602136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4825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йди элемен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«В одном городе  росло много деревьев, прямо целый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бор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! Деревья поставляли людя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кислород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, а люди удобряли их селитрой,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фосфор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ными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удобрениями и даже исполняли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с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оло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во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круг них. С деревьев стекала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ка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медь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, приятный запах радовал душу. Яков гулял с собакой по кличке Тобар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Часто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Тоб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ар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гон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ял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мышь, Як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о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же был настоящим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Титан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ом, мог согнуть прут из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хром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пополам..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Ура</a:t>
            </a:r>
            <a:r>
              <a:rPr b="1" lang="ru-RU" sz="2600" spc="-1" strike="noStrike">
                <a:solidFill>
                  <a:srgbClr val="00b200"/>
                </a:solidFill>
                <a:latin typeface="Comic Sans MS"/>
              </a:rPr>
              <a:t>!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а поляне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ска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кали</a:t>
            </a:r>
            <a:r>
              <a:rPr b="0" lang="ru-RU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й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оркширские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терьеры, и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р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аз от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раза веселье</a:t>
            </a:r>
            <a:br>
              <a:rPr sz="2600"/>
            </a:b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       становилось все безудержнее.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«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Рад он</a:t>
            </a: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,</a:t>
            </a:r>
            <a:br>
              <a:rPr sz="2600"/>
            </a:br>
            <a:r>
              <a:rPr b="0" lang="ru-RU" sz="2600" spc="-1" strike="noStrike">
                <a:solidFill>
                  <a:srgbClr val="00b200"/>
                </a:solidFill>
                <a:latin typeface="Comic Sans MS"/>
              </a:rPr>
              <a:t>       и я рад!» - слышалось в лесу…»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781200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696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лучите кислород разложением  одного из имеющихся реактивов и докажите его получ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еречислите правила техники  безопасности данного опыт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апишите уравнение реа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5651640" y="333360"/>
            <a:ext cx="3168360" cy="1606680"/>
          </a:xfrm>
          <a:prstGeom prst="rect">
            <a:avLst/>
          </a:prstGeom>
          <a:ln w="0">
            <a:noFill/>
          </a:ln>
        </p:spPr>
      </p:pic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740720" y="57340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лучение кислород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696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В основе получения кислорода в лаборатории лежит опыт «Разложение перманганата калия при нагревани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24000" y="4292640"/>
          <a:ext cx="1520640" cy="21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292640"/>
                    <a:ext cx="152064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763640" y="3500280"/>
            <a:ext cx="705636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Уравнение реа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KM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     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K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+ M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+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unga"/>
                <a:ea typeface="Tunga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перманганат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манганат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оксид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калия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калия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марганц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unga"/>
              </a:rPr>
              <a:t>(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4" action="ppaction://hlinksldjump"/>
          </p:cNvPr>
          <p:cNvSpPr/>
          <p:nvPr/>
        </p:nvSpPr>
        <p:spPr>
          <a:xfrm>
            <a:off x="7885080" y="404640"/>
            <a:ext cx="792360" cy="7207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46" h="21600">
                <a:moveTo>
                  <a:pt x="0" y="0"/>
                </a:moveTo>
                <a:lnTo>
                  <a:pt x="23746" y="0"/>
                </a:lnTo>
                <a:lnTo>
                  <a:pt x="23746" y="21600"/>
                </a:lnTo>
                <a:lnTo>
                  <a:pt x="0" y="21600"/>
                </a:lnTo>
                <a:close/>
              </a:path>
              <a:path fill="lightenLess" w="23746" h="21600">
                <a:moveTo>
                  <a:pt x="0" y="0"/>
                </a:moveTo>
                <a:lnTo>
                  <a:pt x="23746" y="0"/>
                </a:lnTo>
                <a:lnTo>
                  <a:pt x="22346" y="1400"/>
                </a:lnTo>
                <a:lnTo>
                  <a:pt x="1400" y="1400"/>
                </a:lnTo>
                <a:close/>
              </a:path>
              <a:path fill="darken" w="23746" h="21600">
                <a:moveTo>
                  <a:pt x="23746" y="0"/>
                </a:moveTo>
                <a:lnTo>
                  <a:pt x="23746" y="21600"/>
                </a:lnTo>
                <a:lnTo>
                  <a:pt x="22346" y="20200"/>
                </a:lnTo>
                <a:lnTo>
                  <a:pt x="22346" y="1400"/>
                </a:lnTo>
                <a:close/>
              </a:path>
              <a:path fill="darkenLess" w="23746" h="21600">
                <a:moveTo>
                  <a:pt x="23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6" y="20200"/>
                </a:lnTo>
                <a:close/>
              </a:path>
              <a:path fill="lighten" w="23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6" h="21600">
                <a:moveTo>
                  <a:pt x="4867" y="7493"/>
                </a:moveTo>
                <a:lnTo>
                  <a:pt x="8374" y="7493"/>
                </a:lnTo>
                <a:lnTo>
                  <a:pt x="8374" y="12828"/>
                </a:lnTo>
                <a:cubicBezTo>
                  <a:pt x="8374" y="13751"/>
                  <a:pt x="9175" y="14482"/>
                  <a:pt x="10211" y="14482"/>
                </a:cubicBezTo>
                <a:lnTo>
                  <a:pt x="11873" y="14482"/>
                </a:lnTo>
                <a:cubicBezTo>
                  <a:pt x="12909" y="14482"/>
                  <a:pt x="13709" y="13751"/>
                  <a:pt x="13709" y="12828"/>
                </a:cubicBezTo>
                <a:lnTo>
                  <a:pt x="13709" y="7493"/>
                </a:lnTo>
                <a:lnTo>
                  <a:pt x="11873" y="7493"/>
                </a:lnTo>
                <a:lnTo>
                  <a:pt x="15381" y="3985"/>
                </a:lnTo>
                <a:lnTo>
                  <a:pt x="19054" y="7493"/>
                </a:lnTo>
                <a:lnTo>
                  <a:pt x="17217" y="7493"/>
                </a:lnTo>
                <a:lnTo>
                  <a:pt x="17217" y="12828"/>
                </a:lnTo>
                <a:cubicBezTo>
                  <a:pt x="17217" y="15596"/>
                  <a:pt x="14641" y="18155"/>
                  <a:pt x="11873" y="18155"/>
                </a:cubicBezTo>
                <a:lnTo>
                  <a:pt x="10211" y="18155"/>
                </a:lnTo>
                <a:cubicBezTo>
                  <a:pt x="7443" y="18155"/>
                  <a:pt x="4867" y="15596"/>
                  <a:pt x="4867" y="12828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4067640" y="1989720"/>
            <a:ext cx="3670920" cy="3423600"/>
            <a:chOff x="4067640" y="1989720"/>
            <a:chExt cx="3670920" cy="3423600"/>
          </a:xfrm>
        </p:grpSpPr>
        <p:sp>
          <p:nvSpPr>
            <p:cNvPr id="373" name=""/>
            <p:cNvSpPr/>
            <p:nvPr/>
          </p:nvSpPr>
          <p:spPr>
            <a:xfrm rot="10800000">
              <a:off x="4067640" y="1989720"/>
              <a:ext cx="1663920" cy="3423600"/>
            </a:xfrm>
            <a:custGeom>
              <a:avLst/>
              <a:gdLst/>
              <a:ahLst/>
              <a:rect l="l" t="t" r="r" b="b"/>
              <a:pathLst>
                <a:path w="59" h="118">
                  <a:moveTo>
                    <a:pt x="0" y="117"/>
                  </a:moveTo>
                  <a:cubicBezTo>
                    <a:pt x="32" y="118"/>
                    <a:pt x="59" y="91"/>
                    <a:pt x="59" y="59"/>
                  </a:cubicBezTo>
                  <a:cubicBezTo>
                    <a:pt x="59" y="26"/>
                    <a:pt x="32" y="0"/>
                    <a:pt x="0" y="0"/>
                  </a:cubicBezTo>
                  <a:lnTo>
                    <a:pt x="0" y="59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0800000">
              <a:off x="6071400" y="1989720"/>
              <a:ext cx="1667160" cy="3423600"/>
            </a:xfrm>
            <a:custGeom>
              <a:avLst/>
              <a:gdLst/>
              <a:ahLst/>
              <a:rect l="l" t="t" r="r" b="b"/>
              <a:pathLst>
                <a:path w="59" h="118">
                  <a:moveTo>
                    <a:pt x="58" y="0"/>
                  </a:moveTo>
                  <a:cubicBezTo>
                    <a:pt x="26" y="0"/>
                    <a:pt x="0" y="26"/>
                    <a:pt x="0" y="58"/>
                  </a:cubicBezTo>
                  <a:cubicBezTo>
                    <a:pt x="0" y="91"/>
                    <a:pt x="26" y="118"/>
                    <a:pt x="59" y="118"/>
                  </a:cubicBezTo>
                  <a:lnTo>
                    <a:pt x="59" y="5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3924360" y="3068640"/>
            <a:ext cx="1728720" cy="12859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684360" y="476280"/>
            <a:ext cx="208728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пер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468360" y="2205000"/>
            <a:ext cx="324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Осталось </a:t>
            </a:r>
            <a:br>
              <a:rPr sz="3200"/>
            </a:b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всего 2 </a:t>
            </a:r>
            <a:br>
              <a:rPr sz="3200"/>
            </a:b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(но каких !!!) вопроса, смеле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1382760" cy="2423880"/>
          </a:xfrm>
          <a:prstGeom prst="rect">
            <a:avLst/>
          </a:prstGeom>
          <a:ln w="0">
            <a:noFill/>
          </a:ln>
        </p:spPr>
      </p:pic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7524720" y="558972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504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76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76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295272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акт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1 элемент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имеет конфигурацию 1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, число его атомов в этом веществе равно высшей валентности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d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 элемент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– основное вещество Солнца, число его атомов в данном веществе равно порядковому номеру элемента, название которого «рождающий оксиды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3 элемент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V 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периода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VI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группы, число атомов его равно порядковому номеру элемента, впервые обнаруженного на Солнце и лишь потом на Земл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4 элемент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имеет модификацию простого вещества, защищающую нашу планету от УФ-излучения. Число его атомов равно числу нейтронов в изотопе </a:t>
            </a:r>
            <a:r>
              <a:rPr b="0" lang="ru-RU" sz="2400" spc="-1" strike="noStrike" baseline="30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пишите формулу этого веществ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и проведите с ним опы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3708360" y="33336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Это вещество – основа проведения опыта «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улканчик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7812000" y="5805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108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43" h="21600">
                <a:moveTo>
                  <a:pt x="108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43" h="21600">
                <a:moveTo>
                  <a:pt x="8245" y="8224"/>
                </a:moveTo>
                <a:lnTo>
                  <a:pt x="12110" y="8224"/>
                </a:lnTo>
                <a:lnTo>
                  <a:pt x="12110" y="15221"/>
                </a:lnTo>
                <a:lnTo>
                  <a:pt x="13398" y="15221"/>
                </a:lnTo>
                <a:lnTo>
                  <a:pt x="13398" y="16144"/>
                </a:lnTo>
                <a:lnTo>
                  <a:pt x="8245" y="16144"/>
                </a:lnTo>
                <a:lnTo>
                  <a:pt x="8245" y="15221"/>
                </a:lnTo>
                <a:lnTo>
                  <a:pt x="9533" y="15221"/>
                </a:lnTo>
                <a:lnTo>
                  <a:pt x="9533" y="9129"/>
                </a:lnTo>
                <a:lnTo>
                  <a:pt x="8245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03280" y="5157720"/>
            <a:ext cx="900360" cy="936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4508640"/>
            <a:ext cx="1270080" cy="1224000"/>
          </a:xfrm>
          <a:prstGeom prst="smileyFace">
            <a:avLst>
              <a:gd name="adj" fmla="val 9282"/>
            </a:avLst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32720" y="3716280"/>
            <a:ext cx="1938240" cy="1441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804000" y="1916280"/>
            <a:ext cx="16556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пер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2852640"/>
            <a:ext cx="69552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7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37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03280" y="3573360"/>
            <a:ext cx="69552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Вулканчик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Конфигурацию 1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b200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меет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число его атомов в этом веществе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равно высшей валентности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Cd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, то есть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Основное вещество Солнца -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, число его атомов в данном веществе равно порядковому номеру  О, то есть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Элемент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IV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периода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VI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группы –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, число атомов его равно порядковому номеру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 He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, то есть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щищает нашу планету от УФ-излучения озон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2400" spc="-1" strike="noStrike" baseline="-25000">
                <a:solidFill>
                  <a:srgbClr val="00b200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 Число его атомов равно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Формула вещества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ил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(N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382760" cy="24242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8360" y="40464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3794"/>
                </a:moveTo>
                <a:lnTo>
                  <a:pt x="17828" y="10800"/>
                </a:lnTo>
                <a:lnTo>
                  <a:pt x="381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8172360" y="5950080"/>
            <a:ext cx="647640" cy="647640"/>
            <a:chOff x="8172360" y="5950080"/>
            <a:chExt cx="647640" cy="647640"/>
          </a:xfrm>
        </p:grpSpPr>
        <p:sp>
          <p:nvSpPr>
            <p:cNvPr id="389" name=""/>
            <p:cNvSpPr/>
            <p:nvPr/>
          </p:nvSpPr>
          <p:spPr>
            <a:xfrm>
              <a:off x="8172360" y="595008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317080" y="6093000"/>
              <a:ext cx="360360" cy="360360"/>
            </a:xfrm>
            <a:prstGeom prst="smileyFace">
              <a:avLst>
                <a:gd name="adj" fmla="val 9282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64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712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200"/>
                            </p:stCondLst>
                            <p:childTnLst>
                              <p:par>
                                <p:cTn id="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2680"/>
                            </p:stCondLst>
                            <p:childTnLst>
                              <p:par>
                                <p:cTn id="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4280"/>
                            </p:stCondLst>
                            <p:childTnLst>
                              <p:par>
                                <p:cTn id="5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ор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Какие лиганды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комплексных соединений содержат кислород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(Между прочим, комплексные соединения изучают в 11 классе!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468360" y="40464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3794"/>
                </a:moveTo>
                <a:lnTo>
                  <a:pt x="17828" y="10800"/>
                </a:lnTo>
                <a:lnTo>
                  <a:pt x="381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812000" y="5877000"/>
            <a:ext cx="647640" cy="647640"/>
            <a:chOff x="7812000" y="5877000"/>
            <a:chExt cx="647640" cy="647640"/>
          </a:xfrm>
        </p:grpSpPr>
        <p:sp>
          <p:nvSpPr>
            <p:cNvPr id="395" name=""/>
            <p:cNvSpPr/>
            <p:nvPr/>
          </p:nvSpPr>
          <p:spPr>
            <a:xfrm>
              <a:off x="7812000" y="5877000"/>
              <a:ext cx="647640" cy="647640"/>
            </a:xfrm>
            <a:custGeom>
              <a:avLst/>
              <a:gdLst>
                <a:gd name="textAreaLeft" fmla="*/ 41760 w 647640"/>
                <a:gd name="textAreaRight" fmla="*/ 605880 w 647640"/>
                <a:gd name="textAreaTop" fmla="*/ 41760 h 647640"/>
                <a:gd name="textAreaBottom" fmla="*/ 605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56720" y="6019920"/>
              <a:ext cx="360360" cy="360360"/>
            </a:xfrm>
            <a:prstGeom prst="smileyFace">
              <a:avLst>
                <a:gd name="adj" fmla="val 9282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иганд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опрос рассчитан на учащегося данного класса, выполнявшего научно-исследовательскую работу «Комплексные соединения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Лиганды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 (от лат. ligo - связываю), в комплексных соедтнениях молекулы или ионы, связанные с центр. атомом (комплексообразователем), напр. в соед. [Co(NH</a:t>
            </a:r>
            <a:r>
              <a:rPr b="0" lang="ru-RU" sz="1800" spc="-1" strike="noStrike" baseline="-25000">
                <a:solidFill>
                  <a:srgbClr val="800000"/>
                </a:solidFill>
                <a:latin typeface="Comic Sans MS"/>
              </a:rPr>
              <a:t>3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)</a:t>
            </a:r>
            <a:r>
              <a:rPr b="0" lang="ru-RU" sz="1800" spc="-1" strike="noStrike" baseline="-25000">
                <a:solidFill>
                  <a:srgbClr val="800000"/>
                </a:solidFill>
                <a:latin typeface="Comic Sans MS"/>
              </a:rPr>
              <a:t>6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]Cl</a:t>
            </a:r>
            <a:r>
              <a:rPr b="0" lang="ru-RU" sz="1800" spc="-1" strike="noStrike" baseline="-25000">
                <a:solidFill>
                  <a:srgbClr val="800000"/>
                </a:solidFill>
                <a:latin typeface="Comic Sans MS"/>
              </a:rPr>
              <a:t>3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 центр. атом - Co, а лиганды - молекулы NH</a:t>
            </a:r>
            <a:r>
              <a:rPr b="0" lang="ru-RU" sz="1800" spc="-1" strike="noStrike" baseline="-25000">
                <a:solidFill>
                  <a:srgbClr val="800000"/>
                </a:solidFill>
                <a:latin typeface="Comic Sans MS"/>
              </a:rPr>
              <a:t>3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. (Большой Российский энциклопедический словар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45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Лиганды, содержащие кислород, например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Молекулы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Н</a:t>
            </a:r>
            <a:r>
              <a:rPr b="0" lang="ru-RU" sz="1800" spc="-1" strike="noStrike" baseline="-25000">
                <a:solidFill>
                  <a:srgbClr val="8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О (аква), СО (карбо, карбонил),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Ионы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NO</a:t>
            </a:r>
            <a:r>
              <a:rPr b="0" lang="en-US" sz="1800" spc="-1" strike="noStrike" baseline="-25000">
                <a:solidFill>
                  <a:srgbClr val="800000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800000"/>
                </a:solidFill>
                <a:latin typeface="Comic Sans MS"/>
              </a:rPr>
              <a:t>-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(нитрато)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, SO</a:t>
            </a:r>
            <a:r>
              <a:rPr b="0" lang="en-US" sz="1800" spc="-1" strike="noStrike" baseline="-25000">
                <a:solidFill>
                  <a:srgbClr val="800000"/>
                </a:solidFill>
                <a:latin typeface="Comic Sans MS"/>
              </a:rPr>
              <a:t>4</a:t>
            </a:r>
            <a:r>
              <a:rPr b="0" lang="en-US" sz="1800" spc="-1" strike="noStrike" baseline="30000">
                <a:solidFill>
                  <a:srgbClr val="800000"/>
                </a:solidFill>
                <a:latin typeface="Comic Sans MS"/>
              </a:rPr>
              <a:t>2-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(сульфато)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, OH</a:t>
            </a:r>
            <a:r>
              <a:rPr b="0" lang="en-US" sz="1800" spc="-1" strike="noStrike" baseline="30000">
                <a:solidFill>
                  <a:srgbClr val="800000"/>
                </a:solidFill>
                <a:latin typeface="Comic Sans MS"/>
              </a:rPr>
              <a:t>-</a:t>
            </a:r>
            <a:r>
              <a:rPr b="0" lang="ru-RU" sz="1800" spc="-1" strike="noStrike" baseline="30000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(гидроксо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15640" y="177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сем большое спасибо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4360" y="299700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Теперь можно отдыхать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868400" y="898560"/>
            <a:ext cx="5727600" cy="5657760"/>
            <a:chOff x="1868400" y="898560"/>
            <a:chExt cx="5727600" cy="5657760"/>
          </a:xfrm>
        </p:grpSpPr>
        <p:sp>
          <p:nvSpPr>
            <p:cNvPr id="188" name=""/>
            <p:cNvSpPr/>
            <p:nvPr/>
          </p:nvSpPr>
          <p:spPr>
            <a:xfrm>
              <a:off x="4822920" y="898560"/>
              <a:ext cx="2048040" cy="2647800"/>
            </a:xfrm>
            <a:custGeom>
              <a:avLst/>
              <a:gdLst/>
              <a:ahLst/>
              <a:rect l="l" t="t" r="r" b="b"/>
              <a:pathLst>
                <a:path w="79" h="102">
                  <a:moveTo>
                    <a:pt x="79" y="37"/>
                  </a:moveTo>
                  <a:cubicBezTo>
                    <a:pt x="59" y="13"/>
                    <a:pt x="30" y="0"/>
                    <a:pt x="0" y="0"/>
                  </a:cubicBezTo>
                  <a:lnTo>
                    <a:pt x="0" y="102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9999ff"/>
            </a:solidFill>
            <a:ln w="27000">
              <a:solidFill>
                <a:srgbClr val="5d2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520" y="1989000"/>
              <a:ext cx="2643480" cy="2283120"/>
            </a:xfrm>
            <a:custGeom>
              <a:avLst/>
              <a:gdLst/>
              <a:ahLst/>
              <a:rect l="l" t="t" r="r" b="b"/>
              <a:pathLst>
                <a:path w="102" h="88">
                  <a:moveTo>
                    <a:pt x="99" y="88"/>
                  </a:moveTo>
                  <a:cubicBezTo>
                    <a:pt x="101" y="80"/>
                    <a:pt x="102" y="72"/>
                    <a:pt x="102" y="65"/>
                  </a:cubicBezTo>
                  <a:cubicBezTo>
                    <a:pt x="102" y="41"/>
                    <a:pt x="93" y="18"/>
                    <a:pt x="79" y="0"/>
                  </a:cubicBezTo>
                  <a:lnTo>
                    <a:pt x="0" y="65"/>
                  </a:lnTo>
                  <a:lnTo>
                    <a:pt x="99" y="88"/>
                  </a:lnTo>
                  <a:close/>
                </a:path>
              </a:pathLst>
            </a:custGeom>
            <a:solidFill>
              <a:srgbClr val="ff3737"/>
            </a:solidFill>
            <a:ln w="27000">
              <a:solidFill>
                <a:srgbClr val="ff373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00680" y="3857760"/>
              <a:ext cx="2565360" cy="236196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44" y="91"/>
                  </a:moveTo>
                  <a:cubicBezTo>
                    <a:pt x="72" y="78"/>
                    <a:pt x="92" y="52"/>
                    <a:pt x="99" y="23"/>
                  </a:cubicBezTo>
                  <a:lnTo>
                    <a:pt x="0" y="0"/>
                  </a:lnTo>
                  <a:lnTo>
                    <a:pt x="44" y="91"/>
                  </a:lnTo>
                  <a:close/>
                </a:path>
              </a:pathLst>
            </a:custGeom>
            <a:solidFill>
              <a:srgbClr val="ff6600"/>
            </a:solidFill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79480" y="3935520"/>
              <a:ext cx="2305800" cy="2620800"/>
            </a:xfrm>
            <a:custGeom>
              <a:avLst/>
              <a:gdLst/>
              <a:ahLst/>
              <a:rect l="l" t="t" r="r" b="b"/>
              <a:pathLst>
                <a:path w="89" h="101">
                  <a:moveTo>
                    <a:pt x="0" y="91"/>
                  </a:moveTo>
                  <a:cubicBezTo>
                    <a:pt x="14" y="98"/>
                    <a:pt x="29" y="101"/>
                    <a:pt x="45" y="101"/>
                  </a:cubicBezTo>
                  <a:cubicBezTo>
                    <a:pt x="60" y="101"/>
                    <a:pt x="75" y="98"/>
                    <a:pt x="89" y="91"/>
                  </a:cubicBezTo>
                  <a:lnTo>
                    <a:pt x="45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ff00"/>
            </a:solidFill>
            <a:ln w="27000">
              <a:solidFill>
                <a:srgbClr val="ff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98000" y="3857760"/>
              <a:ext cx="2591280" cy="2361960"/>
            </a:xfrm>
            <a:custGeom>
              <a:avLst/>
              <a:gdLst/>
              <a:ahLst/>
              <a:rect l="l" t="t" r="r" b="b"/>
              <a:pathLst>
                <a:path w="100" h="91">
                  <a:moveTo>
                    <a:pt x="0" y="23"/>
                  </a:moveTo>
                  <a:cubicBezTo>
                    <a:pt x="7" y="52"/>
                    <a:pt x="27" y="78"/>
                    <a:pt x="55" y="91"/>
                  </a:cubicBezTo>
                  <a:lnTo>
                    <a:pt x="10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9cc00"/>
            </a:solidFill>
            <a:ln w="270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68400" y="1989000"/>
              <a:ext cx="2669400" cy="2283120"/>
            </a:xfrm>
            <a:custGeom>
              <a:avLst/>
              <a:gdLst/>
              <a:ahLst/>
              <a:rect l="l" t="t" r="r" b="b"/>
              <a:pathLst>
                <a:path w="103" h="88">
                  <a:moveTo>
                    <a:pt x="23" y="0"/>
                  </a:moveTo>
                  <a:cubicBezTo>
                    <a:pt x="9" y="18"/>
                    <a:pt x="1" y="41"/>
                    <a:pt x="1" y="64"/>
                  </a:cubicBezTo>
                  <a:cubicBezTo>
                    <a:pt x="0" y="72"/>
                    <a:pt x="1" y="80"/>
                    <a:pt x="3" y="88"/>
                  </a:cubicBezTo>
                  <a:lnTo>
                    <a:pt x="103" y="6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ffff"/>
            </a:solidFill>
            <a:ln w="27000">
              <a:solidFill>
                <a:srgbClr val="33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68600" y="898560"/>
              <a:ext cx="2072520" cy="26478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79" y="0"/>
                  </a:moveTo>
                  <a:cubicBezTo>
                    <a:pt x="49" y="0"/>
                    <a:pt x="20" y="13"/>
                    <a:pt x="0" y="37"/>
                  </a:cubicBezTo>
                  <a:lnTo>
                    <a:pt x="80" y="10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ff"/>
            </a:solidFill>
            <a:ln w="27000">
              <a:solidFill>
                <a:srgbClr val="3d00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-1247760" y="833400"/>
            <a:ext cx="115092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51280" y="1628640"/>
            <a:ext cx="43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e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e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43640" y="2997360"/>
            <a:ext cx="432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e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e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132000" y="4581360"/>
            <a:ext cx="4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e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e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435640" y="1700280"/>
            <a:ext cx="43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27640" y="4508640"/>
            <a:ext cx="432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700360" y="2997360"/>
            <a:ext cx="43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716360" y="5157720"/>
            <a:ext cx="4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d00e8"/>
                  </a:solidFill>
                  <a:miter/>
                </a:ln>
                <a:solidFill>
                  <a:srgbClr val="ff373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19080">
                <a:solidFill>
                  <a:srgbClr val="3d00e8"/>
                </a:solidFill>
                <a:miter/>
              </a:ln>
              <a:solidFill>
                <a:srgbClr val="ff3737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4000" y="260280"/>
            <a:ext cx="3816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703dff"/>
                  </a:solidFill>
                  <a:miter/>
                </a:ln>
                <a:solidFill>
                  <a:srgbClr val="ffe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уровень</a:t>
            </a:r>
            <a:endParaRPr b="0" lang="en-US" sz="2400" spc="1" strike="noStrike">
              <a:ln w="19080">
                <a:solidFill>
                  <a:srgbClr val="703dff"/>
                </a:solidFill>
                <a:miter/>
              </a:ln>
              <a:solidFill>
                <a:srgbClr val="ffe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508720" y="5516640"/>
            <a:ext cx="33145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d00e8"/>
                  </a:solidFill>
                  <a:miter/>
                </a:ln>
                <a:solidFill>
                  <a:srgbClr val="ffe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бирайте</a:t>
            </a:r>
            <a:endParaRPr b="0" lang="en-US" sz="2400" spc="1" strike="noStrike">
              <a:ln w="19080">
                <a:solidFill>
                  <a:srgbClr val="3d00e8"/>
                </a:solidFill>
                <a:miter/>
              </a:ln>
              <a:solidFill>
                <a:srgbClr val="ffe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3d00e8"/>
                  </a:solidFill>
                  <a:miter/>
                </a:ln>
                <a:solidFill>
                  <a:srgbClr val="ffe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</a:t>
            </a:r>
            <a:endParaRPr b="0" lang="en-US" sz="2400" spc="1" strike="noStrike">
              <a:ln w="19080">
                <a:solidFill>
                  <a:srgbClr val="3d00e8"/>
                </a:solidFill>
                <a:miter/>
              </a:ln>
              <a:solidFill>
                <a:srgbClr val="ffe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611280" y="5805360"/>
            <a:ext cx="792000" cy="64800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397" h="21600">
                <a:moveTo>
                  <a:pt x="0" y="0"/>
                </a:moveTo>
                <a:lnTo>
                  <a:pt x="26397" y="0"/>
                </a:lnTo>
                <a:lnTo>
                  <a:pt x="26397" y="21600"/>
                </a:lnTo>
                <a:lnTo>
                  <a:pt x="0" y="21600"/>
                </a:lnTo>
                <a:close/>
              </a:path>
              <a:path fill="lightenLess" w="26397" h="21600">
                <a:moveTo>
                  <a:pt x="0" y="0"/>
                </a:moveTo>
                <a:lnTo>
                  <a:pt x="26397" y="0"/>
                </a:lnTo>
                <a:lnTo>
                  <a:pt x="24997" y="1400"/>
                </a:lnTo>
                <a:lnTo>
                  <a:pt x="1400" y="1400"/>
                </a:lnTo>
                <a:close/>
              </a:path>
              <a:path fill="darken" w="26397" h="21600">
                <a:moveTo>
                  <a:pt x="26397" y="0"/>
                </a:moveTo>
                <a:lnTo>
                  <a:pt x="26397" y="21600"/>
                </a:lnTo>
                <a:lnTo>
                  <a:pt x="24997" y="20200"/>
                </a:lnTo>
                <a:lnTo>
                  <a:pt x="24997" y="1400"/>
                </a:lnTo>
                <a:close/>
              </a:path>
              <a:path fill="darkenLess" w="26397" h="21600">
                <a:moveTo>
                  <a:pt x="26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7" y="20200"/>
                </a:lnTo>
                <a:close/>
              </a:path>
              <a:path fill="lighten" w="26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7" h="21600">
                <a:moveTo>
                  <a:pt x="6192" y="10800"/>
                </a:moveTo>
                <a:lnTo>
                  <a:pt x="20205" y="3794"/>
                </a:lnTo>
                <a:lnTo>
                  <a:pt x="20205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14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Каково строение  атома  кислорода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-  изотопы, 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-  строение ядра,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-  строение электронной 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                   оболочк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7596360" y="5805360"/>
            <a:ext cx="793440" cy="648000"/>
          </a:xfrm>
          <a:custGeom>
            <a:avLst/>
            <a:gdLst>
              <a:gd name="textAreaLeft" fmla="*/ 41760 w 793440"/>
              <a:gd name="textAreaRight" fmla="*/ 751680 w 7934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445" h="21600">
                <a:moveTo>
                  <a:pt x="0" y="0"/>
                </a:moveTo>
                <a:lnTo>
                  <a:pt x="26445" y="0"/>
                </a:lnTo>
                <a:lnTo>
                  <a:pt x="26445" y="21600"/>
                </a:lnTo>
                <a:lnTo>
                  <a:pt x="0" y="21600"/>
                </a:lnTo>
                <a:close/>
              </a:path>
              <a:path fill="lightenLess" w="26445" h="21600">
                <a:moveTo>
                  <a:pt x="0" y="0"/>
                </a:moveTo>
                <a:lnTo>
                  <a:pt x="26445" y="0"/>
                </a:lnTo>
                <a:lnTo>
                  <a:pt x="25045" y="1400"/>
                </a:lnTo>
                <a:lnTo>
                  <a:pt x="1400" y="1400"/>
                </a:lnTo>
                <a:close/>
              </a:path>
              <a:path fill="darken" w="26445" h="21600">
                <a:moveTo>
                  <a:pt x="26445" y="0"/>
                </a:moveTo>
                <a:lnTo>
                  <a:pt x="26445" y="21600"/>
                </a:lnTo>
                <a:lnTo>
                  <a:pt x="25045" y="20200"/>
                </a:lnTo>
                <a:lnTo>
                  <a:pt x="25045" y="1400"/>
                </a:lnTo>
                <a:close/>
              </a:path>
              <a:path fill="darkenLess" w="26445" h="21600">
                <a:moveTo>
                  <a:pt x="26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45" y="20200"/>
                </a:lnTo>
                <a:close/>
              </a:path>
              <a:path fill="lighten" w="26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45" h="21600">
                <a:moveTo>
                  <a:pt x="1322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45" h="21600">
                <a:moveTo>
                  <a:pt x="1322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45" h="21600">
                <a:moveTo>
                  <a:pt x="10646" y="8224"/>
                </a:moveTo>
                <a:lnTo>
                  <a:pt x="14511" y="8224"/>
                </a:lnTo>
                <a:lnTo>
                  <a:pt x="14511" y="15221"/>
                </a:lnTo>
                <a:lnTo>
                  <a:pt x="15799" y="15221"/>
                </a:lnTo>
                <a:lnTo>
                  <a:pt x="15799" y="16144"/>
                </a:lnTo>
                <a:lnTo>
                  <a:pt x="10646" y="16144"/>
                </a:lnTo>
                <a:lnTo>
                  <a:pt x="10646" y="15221"/>
                </a:lnTo>
                <a:lnTo>
                  <a:pt x="11935" y="15221"/>
                </a:lnTo>
                <a:lnTo>
                  <a:pt x="11935" y="9129"/>
                </a:lnTo>
                <a:lnTo>
                  <a:pt x="10646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4500720" y="5877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3503" y="3837"/>
                </a:moveTo>
                <a:lnTo>
                  <a:pt x="16080" y="6448"/>
                </a:lnTo>
                <a:lnTo>
                  <a:pt x="16080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3" y="10800"/>
                </a:lnTo>
                <a:lnTo>
                  <a:pt x="18813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7" h="21600">
                <a:moveTo>
                  <a:pt x="16080" y="6448"/>
                </a:moveTo>
                <a:lnTo>
                  <a:pt x="16080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7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3" y="17989"/>
                </a:lnTo>
                <a:lnTo>
                  <a:pt x="18813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8704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прос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№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Кислород существует в виде трех   изотопов </a:t>
            </a:r>
            <a:r>
              <a:rPr b="0" lang="ru-RU" sz="3200" spc="-1" strike="noStrike" baseline="30000">
                <a:solidFill>
                  <a:srgbClr val="009900"/>
                </a:solidFill>
                <a:latin typeface="Comic Sans MS"/>
              </a:rPr>
              <a:t>16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 О, </a:t>
            </a:r>
            <a:r>
              <a:rPr b="0" lang="ru-RU" sz="3200" spc="-1" strike="noStrike" baseline="30000">
                <a:solidFill>
                  <a:srgbClr val="009900"/>
                </a:solidFill>
                <a:latin typeface="Comic Sans MS"/>
              </a:rPr>
              <a:t>17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 О, </a:t>
            </a:r>
            <a:r>
              <a:rPr b="0" lang="ru-RU" sz="3200" spc="-1" strike="noStrike" baseline="30000">
                <a:solidFill>
                  <a:srgbClr val="009900"/>
                </a:solidFill>
                <a:latin typeface="Comic Sans MS"/>
              </a:rPr>
              <a:t>18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 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Строение ядра 16 О (8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p, 8n) 8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Электронная формула 1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2s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Электронно-графическая форму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132000" y="4581360"/>
            <a:ext cx="3384360" cy="1991520"/>
            <a:chOff x="3132000" y="4581360"/>
            <a:chExt cx="3384360" cy="1991520"/>
          </a:xfrm>
        </p:grpSpPr>
        <p:sp>
          <p:nvSpPr>
            <p:cNvPr id="212" name=""/>
            <p:cNvSpPr/>
            <p:nvPr/>
          </p:nvSpPr>
          <p:spPr>
            <a:xfrm>
              <a:off x="3635280" y="5446440"/>
              <a:ext cx="576360" cy="57456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11640" y="4870080"/>
              <a:ext cx="576000" cy="5749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87640" y="4581360"/>
              <a:ext cx="576360" cy="57456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64000" y="4581360"/>
              <a:ext cx="576360" cy="57456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0360" y="4581360"/>
              <a:ext cx="576000" cy="57456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779640" y="551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356000" y="4941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508360" y="465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932360" y="465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083280" y="465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66920" y="5517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19640" y="46540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3280" y="4941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32000" y="5446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35280" y="487008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79640" y="6113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56000" y="551772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35280" y="5302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10800"/>
                </a:moveTo>
                <a:lnTo>
                  <a:pt x="20476" y="3794"/>
                </a:lnTo>
                <a:lnTo>
                  <a:pt x="2047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вет на вопрос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Ч то  означают эти цифры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6920" y="2708280"/>
            <a:ext cx="129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d00e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1 %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d00e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627280" y="4724280"/>
            <a:ext cx="129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d00e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5 %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d00e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67280" y="2781360"/>
            <a:ext cx="1295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d00e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мм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d00e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020000" y="2852640"/>
            <a:ext cx="129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d00e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3 %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d00e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435640" y="4797360"/>
            <a:ext cx="129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d00e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8 %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d00e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96360" y="5805360"/>
            <a:ext cx="793440" cy="648000"/>
          </a:xfrm>
          <a:custGeom>
            <a:avLst/>
            <a:gdLst>
              <a:gd name="textAreaLeft" fmla="*/ 41760 w 793440"/>
              <a:gd name="textAreaRight" fmla="*/ 751680 w 7934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445" h="21600">
                <a:moveTo>
                  <a:pt x="0" y="0"/>
                </a:moveTo>
                <a:lnTo>
                  <a:pt x="26445" y="0"/>
                </a:lnTo>
                <a:lnTo>
                  <a:pt x="26445" y="21600"/>
                </a:lnTo>
                <a:lnTo>
                  <a:pt x="0" y="21600"/>
                </a:lnTo>
                <a:close/>
              </a:path>
              <a:path fill="lightenLess" w="26445" h="21600">
                <a:moveTo>
                  <a:pt x="0" y="0"/>
                </a:moveTo>
                <a:lnTo>
                  <a:pt x="26445" y="0"/>
                </a:lnTo>
                <a:lnTo>
                  <a:pt x="25045" y="1400"/>
                </a:lnTo>
                <a:lnTo>
                  <a:pt x="1400" y="1400"/>
                </a:lnTo>
                <a:close/>
              </a:path>
              <a:path fill="darken" w="26445" h="21600">
                <a:moveTo>
                  <a:pt x="26445" y="0"/>
                </a:moveTo>
                <a:lnTo>
                  <a:pt x="26445" y="21600"/>
                </a:lnTo>
                <a:lnTo>
                  <a:pt x="25045" y="20200"/>
                </a:lnTo>
                <a:lnTo>
                  <a:pt x="25045" y="1400"/>
                </a:lnTo>
                <a:close/>
              </a:path>
              <a:path fill="darkenLess" w="26445" h="21600">
                <a:moveTo>
                  <a:pt x="26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45" y="20200"/>
                </a:lnTo>
                <a:close/>
              </a:path>
              <a:path fill="lighten" w="26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45" h="21600">
                <a:moveTo>
                  <a:pt x="1322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45" h="21600">
                <a:moveTo>
                  <a:pt x="1322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45" h="21600">
                <a:moveTo>
                  <a:pt x="10646" y="8224"/>
                </a:moveTo>
                <a:lnTo>
                  <a:pt x="14511" y="8224"/>
                </a:lnTo>
                <a:lnTo>
                  <a:pt x="14511" y="15221"/>
                </a:lnTo>
                <a:lnTo>
                  <a:pt x="15799" y="15221"/>
                </a:lnTo>
                <a:lnTo>
                  <a:pt x="15799" y="16144"/>
                </a:lnTo>
                <a:lnTo>
                  <a:pt x="10646" y="16144"/>
                </a:lnTo>
                <a:lnTo>
                  <a:pt x="10646" y="15221"/>
                </a:lnTo>
                <a:lnTo>
                  <a:pt x="11935" y="15221"/>
                </a:lnTo>
                <a:lnTo>
                  <a:pt x="11935" y="9129"/>
                </a:lnTo>
                <a:lnTo>
                  <a:pt x="10646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10920" y="62028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прос №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331640" y="1412640"/>
            <a:ext cx="73436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ъемная доля газа кислорода в воздух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совая доля  газа кислорода в воздух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ссовая доля элемента кислорода в организме чело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ъемная доля газа азота в воздух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557360"/>
            <a:ext cx="86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da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1 %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da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342900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da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5 %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da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95640" y="5300640"/>
            <a:ext cx="79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da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мм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da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4000" y="2492280"/>
            <a:ext cx="86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da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3 %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da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4437000"/>
            <a:ext cx="86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da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8 %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da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3059280" y="5084640"/>
            <a:ext cx="54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олщина озонового слоя в атмосфере Зем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 action="ppaction://hlinksldjump"/>
          </p:cNvPr>
          <p:cNvSpPr/>
          <p:nvPr/>
        </p:nvSpPr>
        <p:spPr>
          <a:xfrm>
            <a:off x="7667640" y="595008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3512" y="3837"/>
                </a:moveTo>
                <a:lnTo>
                  <a:pt x="16088" y="6448"/>
                </a:ln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lnTo>
                  <a:pt x="20475" y="10800"/>
                </a:lnTo>
                <a:lnTo>
                  <a:pt x="18821" y="10800"/>
                </a:lnTo>
                <a:lnTo>
                  <a:pt x="18821" y="17989"/>
                </a:lnTo>
                <a:lnTo>
                  <a:pt x="8203" y="17989"/>
                </a:lnTo>
                <a:lnTo>
                  <a:pt x="8203" y="10800"/>
                </a:lnTo>
                <a:lnTo>
                  <a:pt x="6549" y="10800"/>
                </a:lnTo>
                <a:close/>
              </a:path>
              <a:path fill="darkenLess" w="27024" h="21600">
                <a:moveTo>
                  <a:pt x="16088" y="6448"/>
                </a:moveTo>
                <a:lnTo>
                  <a:pt x="16088" y="4707"/>
                </a:lnTo>
                <a:lnTo>
                  <a:pt x="17864" y="4707"/>
                </a:lnTo>
                <a:lnTo>
                  <a:pt x="17864" y="8224"/>
                </a:lnTo>
                <a:close/>
              </a:path>
              <a:path fill="darkenLess" w="27024" h="21600">
                <a:moveTo>
                  <a:pt x="12589" y="14299"/>
                </a:moveTo>
                <a:lnTo>
                  <a:pt x="14434" y="14299"/>
                </a:lnTo>
                <a:lnTo>
                  <a:pt x="14434" y="17989"/>
                </a:lnTo>
                <a:lnTo>
                  <a:pt x="18821" y="17989"/>
                </a:lnTo>
                <a:lnTo>
                  <a:pt x="18821" y="10800"/>
                </a:lnTo>
                <a:lnTo>
                  <a:pt x="8203" y="10800"/>
                </a:lnTo>
                <a:lnTo>
                  <a:pt x="8203" y="17989"/>
                </a:lnTo>
                <a:lnTo>
                  <a:pt x="12589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61092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вет на вопрос №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36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72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64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84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53276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0e8"/>
                </a:solidFill>
                <a:latin typeface="Comic Sans MS"/>
              </a:rPr>
              <a:t>«… Меня поразило больше, чем я мог выразить, что свеча в  этом газе горела замечательно блестящим пламенем…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00e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3d00e8"/>
                </a:solidFill>
                <a:latin typeface="Comic Sans MS"/>
              </a:rPr>
              <a:t>Джозеф Пристли, 1774 г.</a:t>
            </a: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8028000" y="5805360"/>
            <a:ext cx="793800" cy="648000"/>
          </a:xfrm>
          <a:custGeom>
            <a:avLst/>
            <a:gdLst>
              <a:gd name="textAreaLeft" fmla="*/ 41760 w 793800"/>
              <a:gd name="textAreaRight" fmla="*/ 752040 w 7938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457" h="21600">
                <a:moveTo>
                  <a:pt x="0" y="0"/>
                </a:moveTo>
                <a:lnTo>
                  <a:pt x="26457" y="0"/>
                </a:lnTo>
                <a:lnTo>
                  <a:pt x="26457" y="21600"/>
                </a:lnTo>
                <a:lnTo>
                  <a:pt x="0" y="21600"/>
                </a:lnTo>
                <a:close/>
              </a:path>
              <a:path fill="lightenLess" w="26457" h="21600">
                <a:moveTo>
                  <a:pt x="0" y="0"/>
                </a:moveTo>
                <a:lnTo>
                  <a:pt x="26457" y="0"/>
                </a:lnTo>
                <a:lnTo>
                  <a:pt x="25057" y="1400"/>
                </a:lnTo>
                <a:lnTo>
                  <a:pt x="1400" y="1400"/>
                </a:lnTo>
                <a:close/>
              </a:path>
              <a:path fill="darken" w="26457" h="21600">
                <a:moveTo>
                  <a:pt x="26457" y="0"/>
                </a:moveTo>
                <a:lnTo>
                  <a:pt x="26457" y="21600"/>
                </a:lnTo>
                <a:lnTo>
                  <a:pt x="25057" y="20200"/>
                </a:lnTo>
                <a:lnTo>
                  <a:pt x="25057" y="1400"/>
                </a:lnTo>
                <a:close/>
              </a:path>
              <a:path fill="darkenLess" w="26457" h="21600">
                <a:moveTo>
                  <a:pt x="26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57" y="20200"/>
                </a:lnTo>
                <a:close/>
              </a:path>
              <a:path fill="lighten" w="26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57" h="21600">
                <a:moveTo>
                  <a:pt x="1322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57" h="21600">
                <a:moveTo>
                  <a:pt x="1322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57" h="21600">
                <a:moveTo>
                  <a:pt x="10652" y="8224"/>
                </a:moveTo>
                <a:lnTo>
                  <a:pt x="14517" y="8224"/>
                </a:lnTo>
                <a:lnTo>
                  <a:pt x="14517" y="15221"/>
                </a:lnTo>
                <a:lnTo>
                  <a:pt x="15805" y="15221"/>
                </a:lnTo>
                <a:lnTo>
                  <a:pt x="15805" y="16144"/>
                </a:lnTo>
                <a:lnTo>
                  <a:pt x="10652" y="16144"/>
                </a:lnTo>
                <a:lnTo>
                  <a:pt x="10652" y="15221"/>
                </a:lnTo>
                <a:lnTo>
                  <a:pt x="11941" y="15221"/>
                </a:lnTo>
                <a:lnTo>
                  <a:pt x="11941" y="9129"/>
                </a:lnTo>
                <a:lnTo>
                  <a:pt x="10652" y="9129"/>
                </a:lnTo>
                <a:close/>
              </a:path>
            </a:pathLst>
          </a:cu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-4013280" y="2286000"/>
            <a:ext cx="1428840" cy="2286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376320" y="573336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76c"/>
                </a:solidFill>
                <a:latin typeface="Arial"/>
                <a:ea typeface="Arial"/>
              </a:rPr>
              <a:t>1733-1804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-4013280" y="2286000"/>
            <a:ext cx="1428840" cy="2286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977080" y="1484280"/>
            <a:ext cx="2522520" cy="403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324000" y="3933720"/>
            <a:ext cx="54003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О каком газе идет реч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Составьте уравнение горения с в е ч и,  если  формула  п а р а ф и н а, из которого состоит свеча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Comic Sans MS"/>
              </a:rPr>
              <a:t>15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Comic Sans MS"/>
              </a:rPr>
              <a:t>32</a:t>
            </a: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опрос №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07-01-31T14:20:19Z</dcterms:modified>
  <cp:revision>16</cp:revision>
  <dc:subject/>
  <dc:title>PowerPoint Presentation</dc:title>
</cp:coreProperties>
</file>